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7678-9CF9-48C7-B8A5-C454CFCDB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884C-C588-4AED-832F-37A8F42027D6}" type="slidenum">
              <a:rPr b="0" lang="en-US" sz="12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815A-182D-4438-844F-C27683F36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642C-A91D-4B11-815E-B02E7EDD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7454-1F56-467F-A6E2-B02D6F5C6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2134-4C13-4299-9DED-C11A5DF1B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9882-6671-4A3C-9C9B-DD68003D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FB8B-553E-4B43-9E22-59B3BAA4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7FAF-844A-4FA6-95BB-B97C0CFF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2385-C9EA-4648-8E7F-19663183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F908-D8DE-4145-8652-ADC60EFB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31FD-D3AB-4C03-857C-51CF77CA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BB70-C791-4852-80B8-BAA333DE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7B3A-0740-4E35-9CC0-9A61CFAB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CF03-CB42-4791-8799-64B88939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29DA-41C3-41A5-97DC-65DA2B9E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C1B1-DEC1-4BFD-955E-AE6AED3D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AED8-69F3-4787-B278-F39779174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53A1-F8DF-4488-8773-F6B083FD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B9D0-587A-4D38-BF2B-21B0520F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7CE8-F5B2-42A5-80A5-BB5E0DF3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843B-DF52-4A1B-8071-890399F3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8F02-1CB0-45B1-95DF-F1380AC0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940E-F395-4348-B774-4A9883C1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4BBF-760F-45CC-90D9-D07F5A92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B106-48A0-4CDA-BA85-801698CC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2600" y="93600"/>
            <a:ext cx="9144000" cy="1677960"/>
            <a:chOff x="-12600" y="93600"/>
            <a:chExt cx="9144000" cy="1677960"/>
          </a:xfrm>
        </p:grpSpPr>
        <p:sp>
          <p:nvSpPr>
            <p:cNvPr id="1" name="Rectangle 3"/>
            <p:cNvSpPr/>
            <p:nvPr/>
          </p:nvSpPr>
          <p:spPr>
            <a:xfrm>
              <a:off x="0" y="152388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173340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12600" y="93600"/>
              <a:ext cx="1322280" cy="1571760"/>
              <a:chOff x="-12600" y="93600"/>
              <a:chExt cx="1322280" cy="157176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-12600" y="93600"/>
                <a:ext cx="1322280" cy="157176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-6480" y="307800"/>
                <a:ext cx="1108080" cy="114300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57320" y="336600"/>
                <a:ext cx="782640" cy="108756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49280" y="741240"/>
                <a:ext cx="196920" cy="274680"/>
              </a:xfrm>
              <a:prstGeom prst="pie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42E7-7F55-4011-9B8F-3B891D652E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-12600" y="1681200"/>
            <a:ext cx="9144000" cy="1766880"/>
            <a:chOff x="-12600" y="1681200"/>
            <a:chExt cx="9144000" cy="1766880"/>
          </a:xfrm>
        </p:grpSpPr>
        <p:sp>
          <p:nvSpPr>
            <p:cNvPr id="50" name="Rectangle 3"/>
            <p:cNvSpPr/>
            <p:nvPr/>
          </p:nvSpPr>
          <p:spPr>
            <a:xfrm>
              <a:off x="0" y="320040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" name="Rectangle 4"/>
            <p:cNvSpPr/>
            <p:nvPr/>
          </p:nvSpPr>
          <p:spPr>
            <a:xfrm>
              <a:off x="0" y="340992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52" name="Group 5"/>
            <p:cNvGrpSpPr/>
            <p:nvPr/>
          </p:nvGrpSpPr>
          <p:grpSpPr>
            <a:xfrm>
              <a:off x="-12600" y="1681200"/>
              <a:ext cx="1322280" cy="1571760"/>
              <a:chOff x="-12600" y="1681200"/>
              <a:chExt cx="1322280" cy="1571760"/>
            </a:xfrm>
          </p:grpSpPr>
          <p:sp>
            <p:nvSpPr>
              <p:cNvPr id="53" name="Freeform 6"/>
              <p:cNvSpPr/>
              <p:nvPr/>
            </p:nvSpPr>
            <p:spPr>
              <a:xfrm>
                <a:off x="-12600" y="1681200"/>
                <a:ext cx="1322280" cy="157176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4" name="Freeform 7"/>
              <p:cNvSpPr/>
              <p:nvPr/>
            </p:nvSpPr>
            <p:spPr>
              <a:xfrm>
                <a:off x="-6480" y="1895400"/>
                <a:ext cx="1108080" cy="114300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157320" y="1924200"/>
                <a:ext cx="782640" cy="108720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6" name="Freeform 9"/>
              <p:cNvSpPr/>
              <p:nvPr/>
            </p:nvSpPr>
            <p:spPr>
              <a:xfrm>
                <a:off x="449280" y="2328840"/>
                <a:ext cx="196920" cy="274680"/>
              </a:xfrm>
              <a:prstGeom prst="pie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1989-936E-4BC0-8237-BEB7508D4455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ds.yahoo.com/S=96062857/K=wax+paper/v=2/SID=e/TID=I019_83/l=II/R=2/SS=i/OID=acc750ad0adf1b4e/SIG=1jtfa0q9v/EXP=1109541688/*-http%3A//images.search.yahoo.com/search/images/view?back=http%3A%2F%2Fimages.search.yahoo.com%2Fsearch%2Fimages%3Fp%3Dwax%2Bpaper%26ei%3DUTF-8%26fr%3DFP-tab-img-t%26fl%3D0%26x%3Dwrt&amp;h=425&amp;w=680&amp;imgcurl=www.seidata.com%2F%7Etraintown%2F02FlyinStuff%2Fplanebuildingsteps%2F03waxpaper.jpg&amp;imgurl=www.seidata.com%2F%7Etraintown%2F02FlyinStuff%2Fplanebuildingsteps%2F03waxpaper.jpg&amp;size=42.7kB&amp;name=03waxpaper.jpg&amp;rcurl=http%3A%2F%2Fwww.seidata.com%2F%7Etraintown%2Fhobbyhobnob%2F02buildingaplane.html&amp;rurl=http%3A%2F%2Fwww.seidata.com%2F%7Etraintown%2Fhobbyhobnob%2F02buildingaplane.html&amp;p=wax+paper&amp;type=jpeg&amp;no=2&amp;tt=8,038" TargetMode="External"/><Relationship Id="rId2" Type="http://schemas.openxmlformats.org/officeDocument/2006/relationships/image" Target="../media/image15.png"/><Relationship Id="rId3" Type="http://schemas.openxmlformats.org/officeDocument/2006/relationships/hyperlink" Target="http://rds.yahoo.com/S=96062857/K=plastic+wrap/v=2/SID=e/TID=I019_83/l=II/R=4/SS=i/OID=10eda1c6edd94670/SIG=1hg8spe7d/EXP=1109541781/*-http%3A//images.search.yahoo.com/search/images/view?back=http%3A%2F%2Fimages.search.yahoo.com%2Fsearch%2Fimages%3Fp%3Dplastic%2Bwrap%26ei%3DUTF-8%26fr%3DFP-tab-img-t%26fl%3D0%26x%3Dwrt&amp;h=160&amp;w=252&amp;imgcurl=www.hormel.com%2Fimages%2Fglossary%2Fp%2Fplastic_wrap.jpg&amp;imgurl=www.hormel.com%2Fimages%2Fglossary%2Fp%2Fplastic_wrap.jpg&amp;size=2.7kB&amp;name=plastic_wrap.jpg&amp;rcurl=http%3A%2F%2Fwww.hormel.com%2Fkitchen%2Fglossary.asp%3Fid%3D36505&amp;rurl=http%3A%2F%2Fwww.hormel.com%2Fkitchen%2Fglossary.asp%3Fid%3D36505&amp;p=plastic+wrap&amp;type=jpeg&amp;no=4&amp;tt=8,908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rds.yahoo.com/S=96062857/K=aluminum+foil/v=2/SID=e/TID=I019_83/l=II/R=3/SS=i/OID=7cb0f935f428db3a/SIG=1ghvv0959/EXP=1109541865/*-http%3A//images.search.yahoo.com/search/images/view?back=http%3A%2F%2Fimages.search.yahoo.com%2Fsearch%2Fimages%3Fp%3Daluminum%2Bfoil%26ei%3DUTF-8%26fr%3DFP-tab-img-t%26fl%3D0%26x%3Dwrt&amp;h=224&amp;w=328&amp;imgcurl=www.ceap.wcu.edu%2FHOUGHTON%2FECO%2Ffoil.jpg&amp;imgurl=www.ceap.wcu.edu%2FHOUGHTON%2FECO%2Ffoil.jpg&amp;size=17.9kB&amp;name=foil.jpg&amp;rcurl=http%3A%2F%2Fwww.ceap.wcu.edu%2FHOUGHTON%2FECO%2Fcircuitmake.html&amp;rurl=http%3A%2F%2Fwww.ceap.wcu.edu%2FHOUGHTON%2FECO%2Fcircuitmake.html&amp;p=aluminum+foil&amp;type=jpeg&amp;no=3&amp;tt=7,167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rds.yahoo.com/S=96062857/K=Galileo+Galilei/v=2/SID=e/TID=I019_83/l=II/R=3/SS=i/OID=0f7b7026f8987456/SIG=1ga240431/EXP=1109541287/*-http%3A//images.search.yahoo.com/search/images/view?back=http%3A%2F%2Fimages.search.yahoo.com%2Fsearch%2Fimages%3Fp%3DGalileo%2BGalilei%26ei%3DUTF-8%26fr%3DFP-tab-img-t%26fl%3D0%26x%3Dwrt&amp;h=100&amp;w=77&amp;imgcurl=www.quotedb.com%2Fimages%2Fauthors%2Fgalileo_galilei.jpg&amp;imgurl=www.quotedb.com%2Fimages%2Fauthors%2Fgalileo_galilei.jpg&amp;size=3.4kB&amp;name=galileo_galilei.jpg&amp;rcurl=http%3A%2F%2Fwww.quotedb.com%2Fauthors%2F18&amp;rurl=http%3A%2F%2Fwww.quotedb.com%2Fauthors%2F18&amp;p=Galileo+Galilei&amp;type=jpeg&amp;no=3&amp;tt=6,572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rds.yahoo.com/S=96062857/K=Robert+Hooke/v=2/SID=e/TID=I019_83/l=II/R=6/SS=i/OID=34aff190406f24d2/SIG=1js83v7dn/EXP=1109541342/*-http%3A//images.search.yahoo.com/search/images/view?back=http%3A%2F%2Fimages.search.yahoo.com%2Fsearch%2Fimages%3Fp%3DRobert%2BHooke%26ei%3DUTF-8%26fr%3DFP-tab-img-t%26fl%3D0%26x%3Dwrt&amp;h=191&amp;w=169&amp;imgcurl=www.mcrit.com%2FCOMSOC%2Fpersones_tecniques%2FRobert_Hooke_archivos%2FRobert_Hooke.jpg&amp;imgurl=www.mcrit.com%2FCOMSOC%2Fpersones_tecniques%2FRobert_Hooke_archivos%2FRobert_Hooke.jpg&amp;size=8.1kB&amp;name=Robert_Hooke.jpg&amp;rcurl=http%3A%2F%2Fwww.mcrit.com%2FCOMSOC%2Fpersones_tecniques%2FRobert_Hooke.htm&amp;rurl=http%3A%2F%2Fwww.mcrit.com%2FCOMSOC%2Fpersones_tecniques%2FRobert_Hooke.htm&amp;p=Robert+Hooke&amp;type=jpeg&amp;no=6&amp;tt=339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rds.yahoo.com/S=96062857/K=Anton+van+Leeuwenhoek/v=2/SID=e/TID=I019_83/l=II/R=7/SS=i/OID=b9bef60183305d9c/SIG=1nki7scti/EXP=1109541402/*-http%3A//images.search.yahoo.com/search/images/view?back=http%3A%2F%2Fimages.search.yahoo.com%2Fsearch%2Fimages%3Fp%3DAnton%2Bvan%2BLeeuwenhoek%26ei%3DUTF-8%26fr%3DFP-tab-img-t%26fl%3D0%26x%3Dwrt&amp;h=442&amp;w=377&amp;imgcurl=www.wappingersschools.org%2FRCK%2Fstaff%2Fteacherhp%2Fjohnson%2Fvisualvocab%2Fleeuwenhoek02%255b1%255d.jpg&amp;imgurl=www.wappingersschools.org%2FRCK%2Fstaff%2Fteacherhp%2Fjohnson%2Fvisualvocab%2Fleeuwenhoek02%255b1%255d.jpg&amp;size=44.4kB&amp;name=leeuwenhoek02%5B1%5D.jpg&amp;rcurl=http%3A%2F%2Fwww.wappingersschools.org%2FRCK%2Fstaff%2Fteacherhp%2Fjohnson%2Fvisualvocab%2Fpage9.html&amp;rurl=http%3A%2F%2Fwww.wappingersschools.org%2FRCK%2Fstaff%2Fteacherhp%2Fjohnson%2Fvisualvocab%2Fpage9.html&amp;p=Anton+van+Leeuwenhoek&amp;type=jpeg&amp;no=7&amp;tt=64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Ligh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83996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top Faking It!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 advTm="6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Essential Knowledge, Skills, and Proces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esign an investigation to determine what happens to light as it passes through a concave lens.  Describe the results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33" name="Picture 5" descr="Concave Lens"/>
          <p:cNvPicPr/>
          <p:nvPr/>
        </p:nvPicPr>
        <p:blipFill>
          <a:blip r:embed="rId1"/>
          <a:stretch/>
        </p:blipFill>
        <p:spPr>
          <a:xfrm>
            <a:off x="3657600" y="3581280"/>
            <a:ext cx="1595520" cy="17049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838080" y="53341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A concave lens causes light to diverge, or spread out, producing a larger image than the original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 advTm="12000">
    <p:random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Essential Knowledge, Skills, and Proces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Identify some common optical tools, and describe whether each has lenses, mirrors, and/or prisms in it.  These should include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eyeglasse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lashlights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ameras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binocular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microscope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 advTm="12000">
    <p:random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5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5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Essential Knowledge, Skills, and Proces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Eyeglasses:  have lense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39" name="Group 8"/>
          <p:cNvGrpSpPr/>
          <p:nvPr/>
        </p:nvGrpSpPr>
        <p:grpSpPr>
          <a:xfrm>
            <a:off x="2133720" y="2590920"/>
            <a:ext cx="4647960" cy="3862440"/>
            <a:chOff x="2133720" y="2590920"/>
            <a:chExt cx="4647960" cy="3862440"/>
          </a:xfrm>
        </p:grpSpPr>
        <p:sp>
          <p:nvSpPr>
            <p:cNvPr id="140" name="AutoShape 7"/>
            <p:cNvSpPr/>
            <p:nvPr/>
          </p:nvSpPr>
          <p:spPr>
            <a:xfrm>
              <a:off x="2133720" y="2590920"/>
              <a:ext cx="4647960" cy="361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141" name="Group 101"/>
            <p:cNvGrpSpPr/>
            <p:nvPr/>
          </p:nvGrpSpPr>
          <p:grpSpPr>
            <a:xfrm>
              <a:off x="2550600" y="2874960"/>
              <a:ext cx="3939120" cy="3167280"/>
              <a:chOff x="2550600" y="2874960"/>
              <a:chExt cx="3939120" cy="3167280"/>
            </a:xfrm>
          </p:grpSpPr>
          <p:sp>
            <p:nvSpPr>
              <p:cNvPr id="142" name="Rectangle 9"/>
              <p:cNvSpPr/>
              <p:nvPr/>
            </p:nvSpPr>
            <p:spPr>
              <a:xfrm>
                <a:off x="2579760" y="5859360"/>
                <a:ext cx="199728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. Hyperopia (farsightedness)</a:t>
                </a:r>
                <a:endParaRPr b="0" lang="en-US" sz="12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3" name="Rectangle 10"/>
              <p:cNvSpPr/>
              <p:nvPr/>
            </p:nvSpPr>
            <p:spPr>
              <a:xfrm>
                <a:off x="2804040" y="3641760"/>
                <a:ext cx="95184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. Normal eye</a:t>
                </a:r>
                <a:endParaRPr b="0" lang="en-US" sz="12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4" name="Rectangle 11"/>
              <p:cNvSpPr/>
              <p:nvPr/>
            </p:nvSpPr>
            <p:spPr>
              <a:xfrm>
                <a:off x="2550600" y="4735440"/>
                <a:ext cx="192996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. Myopia (nearsightedness)</a:t>
                </a:r>
                <a:endParaRPr b="0" lang="en-US" sz="12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grpSp>
            <p:nvGrpSpPr>
              <p:cNvPr id="145" name="Group 25"/>
              <p:cNvGrpSpPr/>
              <p:nvPr/>
            </p:nvGrpSpPr>
            <p:grpSpPr>
              <a:xfrm>
                <a:off x="2813040" y="2874960"/>
                <a:ext cx="1235160" cy="789120"/>
                <a:chOff x="2813040" y="2874960"/>
                <a:chExt cx="1235160" cy="789120"/>
              </a:xfrm>
            </p:grpSpPr>
            <p:sp>
              <p:nvSpPr>
                <p:cNvPr id="146" name="Oval 12"/>
                <p:cNvSpPr/>
                <p:nvPr/>
              </p:nvSpPr>
              <p:spPr>
                <a:xfrm>
                  <a:off x="2813040" y="2874960"/>
                  <a:ext cx="790560" cy="78912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Oval 13"/>
                <p:cNvSpPr/>
                <p:nvPr/>
              </p:nvSpPr>
              <p:spPr>
                <a:xfrm>
                  <a:off x="2813040" y="2874960"/>
                  <a:ext cx="790560" cy="78912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Oval 14"/>
                <p:cNvSpPr/>
                <p:nvPr/>
              </p:nvSpPr>
              <p:spPr>
                <a:xfrm>
                  <a:off x="2841480" y="2932200"/>
                  <a:ext cx="660600" cy="65880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"/>
                <p:cNvSpPr/>
                <p:nvPr/>
              </p:nvSpPr>
              <p:spPr>
                <a:xfrm>
                  <a:off x="3449520" y="2955960"/>
                  <a:ext cx="160560" cy="1159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6"/>
                <p:cNvSpPr/>
                <p:nvPr/>
              </p:nvSpPr>
              <p:spPr>
                <a:xfrm flipV="1">
                  <a:off x="3492360" y="3422160"/>
                  <a:ext cx="103320" cy="1018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Oval 17"/>
                <p:cNvSpPr/>
                <p:nvPr/>
              </p:nvSpPr>
              <p:spPr>
                <a:xfrm>
                  <a:off x="3456000" y="3151080"/>
                  <a:ext cx="88920" cy="23652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8"/>
                <p:cNvSpPr/>
                <p:nvPr/>
              </p:nvSpPr>
              <p:spPr>
                <a:xfrm>
                  <a:off x="2849400" y="3262320"/>
                  <a:ext cx="804960" cy="874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9"/>
                <p:cNvSpPr/>
                <p:nvPr/>
              </p:nvSpPr>
              <p:spPr>
                <a:xfrm>
                  <a:off x="3668760" y="3349800"/>
                  <a:ext cx="350640" cy="14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20"/>
                <p:cNvSpPr/>
                <p:nvPr/>
              </p:nvSpPr>
              <p:spPr>
                <a:xfrm flipV="1">
                  <a:off x="2835360" y="3144960"/>
                  <a:ext cx="847800" cy="1173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21"/>
                <p:cNvSpPr/>
                <p:nvPr/>
              </p:nvSpPr>
              <p:spPr>
                <a:xfrm>
                  <a:off x="3668760" y="3144960"/>
                  <a:ext cx="379440" cy="14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6" name="Group 24"/>
                <p:cNvGrpSpPr/>
                <p:nvPr/>
              </p:nvGrpSpPr>
              <p:grpSpPr>
                <a:xfrm>
                  <a:off x="3602160" y="3078000"/>
                  <a:ext cx="60120" cy="339840"/>
                  <a:chOff x="3602160" y="3078000"/>
                  <a:chExt cx="60120" cy="339840"/>
                </a:xfrm>
              </p:grpSpPr>
              <p:sp>
                <p:nvSpPr>
                  <p:cNvPr id="157" name="Arc 22"/>
                  <p:cNvSpPr/>
                  <p:nvPr/>
                </p:nvSpPr>
                <p:spPr>
                  <a:xfrm>
                    <a:off x="3602160" y="3078000"/>
                    <a:ext cx="60120" cy="169920"/>
                  </a:xfrm>
                  <a:prstGeom prst="pi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ddddd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Arc 23"/>
                  <p:cNvSpPr/>
                  <p:nvPr/>
                </p:nvSpPr>
                <p:spPr>
                  <a:xfrm>
                    <a:off x="3602160" y="3247920"/>
                    <a:ext cx="60120" cy="169920"/>
                  </a:xfrm>
                  <a:prstGeom prst="pi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dddddd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9" name="Group 39"/>
              <p:cNvGrpSpPr/>
              <p:nvPr/>
            </p:nvGrpSpPr>
            <p:grpSpPr>
              <a:xfrm>
                <a:off x="2782800" y="3954600"/>
                <a:ext cx="1309680" cy="790560"/>
                <a:chOff x="2782800" y="3954600"/>
                <a:chExt cx="1309680" cy="790560"/>
              </a:xfrm>
            </p:grpSpPr>
            <p:sp>
              <p:nvSpPr>
                <p:cNvPr id="160" name="Oval 26"/>
                <p:cNvSpPr/>
                <p:nvPr/>
              </p:nvSpPr>
              <p:spPr>
                <a:xfrm>
                  <a:off x="2782800" y="3954600"/>
                  <a:ext cx="792360" cy="79056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Oval 27"/>
                <p:cNvSpPr/>
                <p:nvPr/>
              </p:nvSpPr>
              <p:spPr>
                <a:xfrm>
                  <a:off x="2782800" y="3954600"/>
                  <a:ext cx="879480" cy="79056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Oval 28"/>
                <p:cNvSpPr/>
                <p:nvPr/>
              </p:nvSpPr>
              <p:spPr>
                <a:xfrm>
                  <a:off x="2797200" y="4027320"/>
                  <a:ext cx="806400" cy="65916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Oval 29"/>
                <p:cNvSpPr/>
                <p:nvPr/>
              </p:nvSpPr>
              <p:spPr>
                <a:xfrm>
                  <a:off x="3543480" y="4232160"/>
                  <a:ext cx="118800" cy="23508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Line 30"/>
                <p:cNvSpPr/>
                <p:nvPr/>
              </p:nvSpPr>
              <p:spPr>
                <a:xfrm>
                  <a:off x="2790720" y="4327560"/>
                  <a:ext cx="920880" cy="1173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Line 31"/>
                <p:cNvSpPr/>
                <p:nvPr/>
              </p:nvSpPr>
              <p:spPr>
                <a:xfrm>
                  <a:off x="3727440" y="4444920"/>
                  <a:ext cx="351000" cy="18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Line 32"/>
                <p:cNvSpPr/>
                <p:nvPr/>
              </p:nvSpPr>
              <p:spPr>
                <a:xfrm flipV="1">
                  <a:off x="2790720" y="4240080"/>
                  <a:ext cx="936720" cy="1317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Line 33"/>
                <p:cNvSpPr/>
                <p:nvPr/>
              </p:nvSpPr>
              <p:spPr>
                <a:xfrm>
                  <a:off x="3727440" y="4240080"/>
                  <a:ext cx="365040" cy="18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8" name="Group 36"/>
                <p:cNvGrpSpPr/>
                <p:nvPr/>
              </p:nvGrpSpPr>
              <p:grpSpPr>
                <a:xfrm>
                  <a:off x="3660840" y="4187880"/>
                  <a:ext cx="60120" cy="339840"/>
                  <a:chOff x="3660840" y="4187880"/>
                  <a:chExt cx="60120" cy="339840"/>
                </a:xfrm>
              </p:grpSpPr>
              <p:sp>
                <p:nvSpPr>
                  <p:cNvPr id="169" name="Arc 34"/>
                  <p:cNvSpPr/>
                  <p:nvPr/>
                </p:nvSpPr>
                <p:spPr>
                  <a:xfrm>
                    <a:off x="3660840" y="4187880"/>
                    <a:ext cx="60120" cy="169920"/>
                  </a:xfrm>
                  <a:prstGeom prst="pi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ddddd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Arc 35"/>
                  <p:cNvSpPr/>
                  <p:nvPr/>
                </p:nvSpPr>
                <p:spPr>
                  <a:xfrm>
                    <a:off x="3660840" y="4357800"/>
                    <a:ext cx="60120" cy="169920"/>
                  </a:xfrm>
                  <a:prstGeom prst="pi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ddddd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1" name="Line 37"/>
                <p:cNvSpPr/>
                <p:nvPr/>
              </p:nvSpPr>
              <p:spPr>
                <a:xfrm flipH="1" flipV="1">
                  <a:off x="3565080" y="4094280"/>
                  <a:ext cx="103320" cy="871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Line 38"/>
                <p:cNvSpPr/>
                <p:nvPr/>
              </p:nvSpPr>
              <p:spPr>
                <a:xfrm flipH="1">
                  <a:off x="3537000" y="4502160"/>
                  <a:ext cx="131760" cy="889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Group 53"/>
              <p:cNvGrpSpPr/>
              <p:nvPr/>
            </p:nvGrpSpPr>
            <p:grpSpPr>
              <a:xfrm>
                <a:off x="2776680" y="5033880"/>
                <a:ext cx="1212840" cy="804960"/>
                <a:chOff x="2776680" y="5033880"/>
                <a:chExt cx="1212840" cy="804960"/>
              </a:xfrm>
            </p:grpSpPr>
            <p:sp>
              <p:nvSpPr>
                <p:cNvPr id="174" name="Oval 40"/>
                <p:cNvSpPr/>
                <p:nvPr/>
              </p:nvSpPr>
              <p:spPr>
                <a:xfrm>
                  <a:off x="2900520" y="5033880"/>
                  <a:ext cx="658800" cy="80496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Oval 41"/>
                <p:cNvSpPr/>
                <p:nvPr/>
              </p:nvSpPr>
              <p:spPr>
                <a:xfrm>
                  <a:off x="2900520" y="5033880"/>
                  <a:ext cx="658800" cy="80496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Oval 42"/>
                <p:cNvSpPr/>
                <p:nvPr/>
              </p:nvSpPr>
              <p:spPr>
                <a:xfrm>
                  <a:off x="2914560" y="5106960"/>
                  <a:ext cx="615960" cy="64440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Oval 43"/>
                <p:cNvSpPr/>
                <p:nvPr/>
              </p:nvSpPr>
              <p:spPr>
                <a:xfrm>
                  <a:off x="3456000" y="5311800"/>
                  <a:ext cx="74520" cy="23508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Line 44"/>
                <p:cNvSpPr/>
                <p:nvPr/>
              </p:nvSpPr>
              <p:spPr>
                <a:xfrm>
                  <a:off x="2790720" y="5437080"/>
                  <a:ext cx="804960" cy="1018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Line 45"/>
                <p:cNvSpPr/>
                <p:nvPr/>
              </p:nvSpPr>
              <p:spPr>
                <a:xfrm>
                  <a:off x="3610080" y="5538960"/>
                  <a:ext cx="350640" cy="14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Line 46"/>
                <p:cNvSpPr/>
                <p:nvPr/>
              </p:nvSpPr>
              <p:spPr>
                <a:xfrm flipV="1">
                  <a:off x="2776680" y="5319720"/>
                  <a:ext cx="847440" cy="1173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Line 47"/>
                <p:cNvSpPr/>
                <p:nvPr/>
              </p:nvSpPr>
              <p:spPr>
                <a:xfrm>
                  <a:off x="3610080" y="5319720"/>
                  <a:ext cx="379440" cy="14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2" name="Group 50"/>
                <p:cNvGrpSpPr/>
                <p:nvPr/>
              </p:nvGrpSpPr>
              <p:grpSpPr>
                <a:xfrm>
                  <a:off x="3557520" y="5267160"/>
                  <a:ext cx="60480" cy="339840"/>
                  <a:chOff x="3557520" y="5267160"/>
                  <a:chExt cx="60480" cy="339840"/>
                </a:xfrm>
              </p:grpSpPr>
              <p:sp>
                <p:nvSpPr>
                  <p:cNvPr id="183" name="Arc 48"/>
                  <p:cNvSpPr/>
                  <p:nvPr/>
                </p:nvSpPr>
                <p:spPr>
                  <a:xfrm>
                    <a:off x="3557520" y="5267160"/>
                    <a:ext cx="60480" cy="169920"/>
                  </a:xfrm>
                  <a:prstGeom prst="pi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ddddd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Arc 49"/>
                  <p:cNvSpPr/>
                  <p:nvPr/>
                </p:nvSpPr>
                <p:spPr>
                  <a:xfrm>
                    <a:off x="3557520" y="5437080"/>
                    <a:ext cx="60480" cy="169920"/>
                  </a:xfrm>
                  <a:prstGeom prst="pi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ddddd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5" name="Line 51"/>
                <p:cNvSpPr/>
                <p:nvPr/>
              </p:nvSpPr>
              <p:spPr>
                <a:xfrm flipH="1">
                  <a:off x="3478320" y="5583240"/>
                  <a:ext cx="87120" cy="730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Line 52"/>
                <p:cNvSpPr/>
                <p:nvPr/>
              </p:nvSpPr>
              <p:spPr>
                <a:xfrm flipH="1" flipV="1">
                  <a:off x="3492000" y="5187600"/>
                  <a:ext cx="73080" cy="730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Group 76"/>
              <p:cNvGrpSpPr/>
              <p:nvPr/>
            </p:nvGrpSpPr>
            <p:grpSpPr>
              <a:xfrm>
                <a:off x="4829040" y="3940200"/>
                <a:ext cx="1309680" cy="789120"/>
                <a:chOff x="4829040" y="3940200"/>
                <a:chExt cx="1309680" cy="789120"/>
              </a:xfrm>
            </p:grpSpPr>
            <p:sp>
              <p:nvSpPr>
                <p:cNvPr id="188" name="Oval 54"/>
                <p:cNvSpPr/>
                <p:nvPr/>
              </p:nvSpPr>
              <p:spPr>
                <a:xfrm>
                  <a:off x="4829040" y="3940200"/>
                  <a:ext cx="792360" cy="78912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Oval 55"/>
                <p:cNvSpPr/>
                <p:nvPr/>
              </p:nvSpPr>
              <p:spPr>
                <a:xfrm>
                  <a:off x="4829040" y="3940200"/>
                  <a:ext cx="879480" cy="78912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Oval 56"/>
                <p:cNvSpPr/>
                <p:nvPr/>
              </p:nvSpPr>
              <p:spPr>
                <a:xfrm>
                  <a:off x="4843440" y="4013280"/>
                  <a:ext cx="806400" cy="65880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Oval 57"/>
                <p:cNvSpPr/>
                <p:nvPr/>
              </p:nvSpPr>
              <p:spPr>
                <a:xfrm>
                  <a:off x="5589720" y="4216320"/>
                  <a:ext cx="118800" cy="23652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Line 58"/>
                <p:cNvSpPr/>
                <p:nvPr/>
              </p:nvSpPr>
              <p:spPr>
                <a:xfrm>
                  <a:off x="4836960" y="4327560"/>
                  <a:ext cx="920880" cy="1015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Line 59"/>
                <p:cNvSpPr/>
                <p:nvPr/>
              </p:nvSpPr>
              <p:spPr>
                <a:xfrm>
                  <a:off x="5773680" y="4429080"/>
                  <a:ext cx="351000" cy="18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Line 60"/>
                <p:cNvSpPr/>
                <p:nvPr/>
              </p:nvSpPr>
              <p:spPr>
                <a:xfrm flipV="1">
                  <a:off x="4853160" y="4226040"/>
                  <a:ext cx="920520" cy="1015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Line 61"/>
                <p:cNvSpPr/>
                <p:nvPr/>
              </p:nvSpPr>
              <p:spPr>
                <a:xfrm>
                  <a:off x="5773680" y="4226040"/>
                  <a:ext cx="365040" cy="14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6" name="Group 64"/>
                <p:cNvGrpSpPr/>
                <p:nvPr/>
              </p:nvGrpSpPr>
              <p:grpSpPr>
                <a:xfrm>
                  <a:off x="5707080" y="4173480"/>
                  <a:ext cx="60480" cy="339840"/>
                  <a:chOff x="5707080" y="4173480"/>
                  <a:chExt cx="60480" cy="339840"/>
                </a:xfrm>
              </p:grpSpPr>
              <p:sp>
                <p:nvSpPr>
                  <p:cNvPr id="197" name="Arc 62"/>
                  <p:cNvSpPr/>
                  <p:nvPr/>
                </p:nvSpPr>
                <p:spPr>
                  <a:xfrm>
                    <a:off x="5707080" y="4173480"/>
                    <a:ext cx="60480" cy="169920"/>
                  </a:xfrm>
                  <a:prstGeom prst="pi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ddddd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Arc 63"/>
                  <p:cNvSpPr/>
                  <p:nvPr/>
                </p:nvSpPr>
                <p:spPr>
                  <a:xfrm>
                    <a:off x="5707080" y="4343400"/>
                    <a:ext cx="60480" cy="169920"/>
                  </a:xfrm>
                  <a:prstGeom prst="pi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ddddd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9" name="Line 65"/>
                <p:cNvSpPr/>
                <p:nvPr/>
              </p:nvSpPr>
              <p:spPr>
                <a:xfrm flipH="1" flipV="1">
                  <a:off x="5611320" y="4079520"/>
                  <a:ext cx="103320" cy="874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Line 66"/>
                <p:cNvSpPr/>
                <p:nvPr/>
              </p:nvSpPr>
              <p:spPr>
                <a:xfrm flipH="1">
                  <a:off x="5583240" y="4487760"/>
                  <a:ext cx="131760" cy="874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1" name="Group 75"/>
                <p:cNvGrpSpPr/>
                <p:nvPr/>
              </p:nvGrpSpPr>
              <p:grpSpPr>
                <a:xfrm>
                  <a:off x="5802480" y="4035600"/>
                  <a:ext cx="241200" cy="556920"/>
                  <a:chOff x="5802480" y="4035600"/>
                  <a:chExt cx="241200" cy="556920"/>
                </a:xfrm>
              </p:grpSpPr>
              <p:grpSp>
                <p:nvGrpSpPr>
                  <p:cNvPr id="202" name="Group 69"/>
                  <p:cNvGrpSpPr/>
                  <p:nvPr/>
                </p:nvGrpSpPr>
                <p:grpSpPr>
                  <a:xfrm>
                    <a:off x="5954760" y="4043520"/>
                    <a:ext cx="88920" cy="541080"/>
                    <a:chOff x="5954760" y="4043520"/>
                    <a:chExt cx="88920" cy="541080"/>
                  </a:xfrm>
                </p:grpSpPr>
                <p:sp>
                  <p:nvSpPr>
                    <p:cNvPr id="203" name="Arc 67"/>
                    <p:cNvSpPr/>
                    <p:nvPr/>
                  </p:nvSpPr>
                  <p:spPr>
                    <a:xfrm>
                      <a:off x="5954760" y="4043520"/>
                      <a:ext cx="88920" cy="2775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Arc 68"/>
                    <p:cNvSpPr/>
                    <p:nvPr/>
                  </p:nvSpPr>
                  <p:spPr>
                    <a:xfrm>
                      <a:off x="5954760" y="4305240"/>
                      <a:ext cx="88920" cy="2793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5" name="Group 72"/>
                  <p:cNvGrpSpPr/>
                  <p:nvPr/>
                </p:nvGrpSpPr>
                <p:grpSpPr>
                  <a:xfrm>
                    <a:off x="5808600" y="4041720"/>
                    <a:ext cx="90720" cy="542880"/>
                    <a:chOff x="5808600" y="4041720"/>
                    <a:chExt cx="90720" cy="542880"/>
                  </a:xfrm>
                </p:grpSpPr>
                <p:sp>
                  <p:nvSpPr>
                    <p:cNvPr id="206" name="Arc 70"/>
                    <p:cNvSpPr/>
                    <p:nvPr/>
                  </p:nvSpPr>
                  <p:spPr>
                    <a:xfrm>
                      <a:off x="5808600" y="4041720"/>
                      <a:ext cx="90720" cy="2793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Arc 71"/>
                    <p:cNvSpPr/>
                    <p:nvPr/>
                  </p:nvSpPr>
                  <p:spPr>
                    <a:xfrm>
                      <a:off x="5808600" y="4305240"/>
                      <a:ext cx="90720" cy="2793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8" name="Line 73"/>
                  <p:cNvSpPr/>
                  <p:nvPr/>
                </p:nvSpPr>
                <p:spPr>
                  <a:xfrm>
                    <a:off x="5802480" y="4035600"/>
                    <a:ext cx="218880" cy="144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ddddd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Line 74"/>
                  <p:cNvSpPr/>
                  <p:nvPr/>
                </p:nvSpPr>
                <p:spPr>
                  <a:xfrm>
                    <a:off x="5802480" y="4591080"/>
                    <a:ext cx="218880" cy="144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dddddd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0" name="Group 97"/>
              <p:cNvGrpSpPr/>
              <p:nvPr/>
            </p:nvGrpSpPr>
            <p:grpSpPr>
              <a:xfrm>
                <a:off x="4932360" y="5019840"/>
                <a:ext cx="1089000" cy="804600"/>
                <a:chOff x="4932360" y="5019840"/>
                <a:chExt cx="1089000" cy="804600"/>
              </a:xfrm>
            </p:grpSpPr>
            <p:sp>
              <p:nvSpPr>
                <p:cNvPr id="211" name="Oval 77"/>
                <p:cNvSpPr/>
                <p:nvPr/>
              </p:nvSpPr>
              <p:spPr>
                <a:xfrm>
                  <a:off x="4932360" y="5019840"/>
                  <a:ext cx="658800" cy="80460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Oval 78"/>
                <p:cNvSpPr/>
                <p:nvPr/>
              </p:nvSpPr>
              <p:spPr>
                <a:xfrm>
                  <a:off x="4932360" y="5019840"/>
                  <a:ext cx="658800" cy="80460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Oval 79"/>
                <p:cNvSpPr/>
                <p:nvPr/>
              </p:nvSpPr>
              <p:spPr>
                <a:xfrm>
                  <a:off x="4946760" y="5092560"/>
                  <a:ext cx="615960" cy="64476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Oval 80"/>
                <p:cNvSpPr/>
                <p:nvPr/>
              </p:nvSpPr>
              <p:spPr>
                <a:xfrm>
                  <a:off x="5487840" y="5297400"/>
                  <a:ext cx="74880" cy="23508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Line 81"/>
                <p:cNvSpPr/>
                <p:nvPr/>
              </p:nvSpPr>
              <p:spPr>
                <a:xfrm>
                  <a:off x="4940280" y="5423040"/>
                  <a:ext cx="687240" cy="1015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Line 82"/>
                <p:cNvSpPr/>
                <p:nvPr/>
              </p:nvSpPr>
              <p:spPr>
                <a:xfrm>
                  <a:off x="5641920" y="5524560"/>
                  <a:ext cx="351000" cy="14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Line 83"/>
                <p:cNvSpPr/>
                <p:nvPr/>
              </p:nvSpPr>
              <p:spPr>
                <a:xfrm flipV="1">
                  <a:off x="4954680" y="5304960"/>
                  <a:ext cx="701640" cy="117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Line 84"/>
                <p:cNvSpPr/>
                <p:nvPr/>
              </p:nvSpPr>
              <p:spPr>
                <a:xfrm>
                  <a:off x="5641920" y="5305320"/>
                  <a:ext cx="379440" cy="18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9" name="Group 87"/>
                <p:cNvGrpSpPr/>
                <p:nvPr/>
              </p:nvGrpSpPr>
              <p:grpSpPr>
                <a:xfrm>
                  <a:off x="5589720" y="5253120"/>
                  <a:ext cx="60120" cy="339480"/>
                  <a:chOff x="5589720" y="5253120"/>
                  <a:chExt cx="60120" cy="339480"/>
                </a:xfrm>
              </p:grpSpPr>
              <p:sp>
                <p:nvSpPr>
                  <p:cNvPr id="220" name="Arc 85"/>
                  <p:cNvSpPr/>
                  <p:nvPr/>
                </p:nvSpPr>
                <p:spPr>
                  <a:xfrm>
                    <a:off x="5589720" y="5253120"/>
                    <a:ext cx="60120" cy="169920"/>
                  </a:xfrm>
                  <a:prstGeom prst="pi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ddddd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Arc 86"/>
                  <p:cNvSpPr/>
                  <p:nvPr/>
                </p:nvSpPr>
                <p:spPr>
                  <a:xfrm>
                    <a:off x="5589720" y="5423040"/>
                    <a:ext cx="60120" cy="169560"/>
                  </a:xfrm>
                  <a:prstGeom prst="pi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ddddd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2" name="Line 88"/>
                <p:cNvSpPr/>
                <p:nvPr/>
              </p:nvSpPr>
              <p:spPr>
                <a:xfrm flipH="1">
                  <a:off x="5509800" y="5567400"/>
                  <a:ext cx="87480" cy="730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Line 89"/>
                <p:cNvSpPr/>
                <p:nvPr/>
              </p:nvSpPr>
              <p:spPr>
                <a:xfrm flipH="1" flipV="1">
                  <a:off x="5524200" y="5173200"/>
                  <a:ext cx="73080" cy="730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4" name="Group 96"/>
                <p:cNvGrpSpPr/>
                <p:nvPr/>
              </p:nvGrpSpPr>
              <p:grpSpPr>
                <a:xfrm>
                  <a:off x="5735520" y="5137200"/>
                  <a:ext cx="163800" cy="541440"/>
                  <a:chOff x="5735520" y="5137200"/>
                  <a:chExt cx="163800" cy="541440"/>
                </a:xfrm>
              </p:grpSpPr>
              <p:grpSp>
                <p:nvGrpSpPr>
                  <p:cNvPr id="225" name="Group 92"/>
                  <p:cNvGrpSpPr/>
                  <p:nvPr/>
                </p:nvGrpSpPr>
                <p:grpSpPr>
                  <a:xfrm>
                    <a:off x="5735520" y="5137200"/>
                    <a:ext cx="88920" cy="541440"/>
                    <a:chOff x="5735520" y="5137200"/>
                    <a:chExt cx="88920" cy="541440"/>
                  </a:xfrm>
                </p:grpSpPr>
                <p:sp>
                  <p:nvSpPr>
                    <p:cNvPr id="226" name="Arc 90"/>
                    <p:cNvSpPr/>
                    <p:nvPr/>
                  </p:nvSpPr>
                  <p:spPr>
                    <a:xfrm>
                      <a:off x="5735520" y="5137200"/>
                      <a:ext cx="88920" cy="27792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Arc 91"/>
                    <p:cNvSpPr/>
                    <p:nvPr/>
                  </p:nvSpPr>
                  <p:spPr>
                    <a:xfrm>
                      <a:off x="5735520" y="5398920"/>
                      <a:ext cx="88920" cy="27972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" name="Group 95"/>
                  <p:cNvGrpSpPr/>
                  <p:nvPr/>
                </p:nvGrpSpPr>
                <p:grpSpPr>
                  <a:xfrm>
                    <a:off x="5808600" y="5137200"/>
                    <a:ext cx="90720" cy="541440"/>
                    <a:chOff x="5808600" y="5137200"/>
                    <a:chExt cx="90720" cy="541440"/>
                  </a:xfrm>
                </p:grpSpPr>
                <p:sp>
                  <p:nvSpPr>
                    <p:cNvPr id="229" name="Arc 93"/>
                    <p:cNvSpPr/>
                    <p:nvPr/>
                  </p:nvSpPr>
                  <p:spPr>
                    <a:xfrm>
                      <a:off x="5808600" y="5137200"/>
                      <a:ext cx="90720" cy="27792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Arc 94"/>
                    <p:cNvSpPr/>
                    <p:nvPr/>
                  </p:nvSpPr>
                  <p:spPr>
                    <a:xfrm>
                      <a:off x="5808600" y="5398920"/>
                      <a:ext cx="90720" cy="27972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31" name="Rectangle 98"/>
              <p:cNvSpPr/>
              <p:nvPr/>
            </p:nvSpPr>
            <p:spPr>
              <a:xfrm>
                <a:off x="4568760" y="4721400"/>
                <a:ext cx="192096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rrected with concave lens</a:t>
                </a:r>
                <a:endParaRPr b="0" lang="en-US" sz="12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32" name="Rectangle 99"/>
              <p:cNvSpPr/>
              <p:nvPr/>
            </p:nvSpPr>
            <p:spPr>
              <a:xfrm>
                <a:off x="4626720" y="5859360"/>
                <a:ext cx="183564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rrected with convex lens</a:t>
                </a:r>
                <a:endParaRPr b="0" lang="en-US" sz="12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33" name="Rectangle 100"/>
              <p:cNvSpPr/>
              <p:nvPr/>
            </p:nvSpPr>
            <p:spPr>
              <a:xfrm>
                <a:off x="4611600" y="3189240"/>
                <a:ext cx="146376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o correction needed</a:t>
                </a:r>
                <a:endParaRPr b="0" lang="en-US" sz="12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34" name="Rectangle 102"/>
            <p:cNvSpPr/>
            <p:nvPr/>
          </p:nvSpPr>
          <p:spPr>
            <a:xfrm>
              <a:off x="3960720" y="6240600"/>
              <a:ext cx="18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 spd="med" advTm="10000">
    <p:random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Essential Knowledge, Skills, and Proces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lashlight:  has lenses and a mirro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237" name="Picture 8" descr="MagLiteRechargeableDiagram"/>
          <p:cNvPicPr/>
          <p:nvPr/>
        </p:nvPicPr>
        <p:blipFill>
          <a:blip r:embed="rId1"/>
          <a:stretch/>
        </p:blipFill>
        <p:spPr>
          <a:xfrm>
            <a:off x="1447920" y="2895480"/>
            <a:ext cx="6248160" cy="34340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Essential Knowledge, Skills, and Proces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ameras:  have lenses, mirrors, and a prism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240" name="Picture 5" descr="camera_slr"/>
          <p:cNvPicPr/>
          <p:nvPr/>
        </p:nvPicPr>
        <p:blipFill>
          <a:blip r:embed="rId1"/>
          <a:stretch/>
        </p:blipFill>
        <p:spPr>
          <a:xfrm>
            <a:off x="2057400" y="2514600"/>
            <a:ext cx="5143680" cy="40384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Essential Knowledge, Skills, and Proces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Binoculars:  have lenses and prism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243" name="Picture 4" descr="Binoculars diagram"/>
          <p:cNvPicPr/>
          <p:nvPr/>
        </p:nvPicPr>
        <p:blipFill>
          <a:blip r:embed="rId1"/>
          <a:stretch/>
        </p:blipFill>
        <p:spPr>
          <a:xfrm>
            <a:off x="2666880" y="2666880"/>
            <a:ext cx="3551400" cy="37339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Essential Knowledge, Skills, and Proces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Microscope:  has lense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246" name="Picture 5" descr="LightDiagram"/>
          <p:cNvPicPr/>
          <p:nvPr/>
        </p:nvPicPr>
        <p:blipFill>
          <a:blip r:embed="rId1"/>
          <a:stretch/>
        </p:blipFill>
        <p:spPr>
          <a:xfrm>
            <a:off x="2971800" y="2590920"/>
            <a:ext cx="2776680" cy="3971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Essential Knowledge, Skills, and Proces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Explain the terms transparent, translucent, and opaque, and give an example of each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249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3537000"/>
            <a:ext cx="2133360" cy="132876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6"/>
          <p:cNvSpPr/>
          <p:nvPr/>
        </p:nvSpPr>
        <p:spPr>
          <a:xfrm>
            <a:off x="609480" y="510552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Plastic wrap</a:t>
            </a: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  Wax paper</a:t>
            </a: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         Aluminum Foil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Transparent</a:t>
            </a: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  Translucent</a:t>
            </a: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  Opaqu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251" name="Picture 8" descr="Go to fullsize image">
            <a:hlinkClick r:id="rId3"/>
          </p:cNvPr>
          <p:cNvPicPr/>
          <p:nvPr/>
        </p:nvPicPr>
        <p:blipFill>
          <a:blip r:embed="rId4">
            <a:lum bright="-18000"/>
          </a:blip>
          <a:stretch/>
        </p:blipFill>
        <p:spPr>
          <a:xfrm>
            <a:off x="609480" y="3586320"/>
            <a:ext cx="2057400" cy="12906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0" descr="Go to fullsize image">
            <a:hlinkClick r:id="rId5"/>
          </p:cNvPr>
          <p:cNvPicPr/>
          <p:nvPr/>
        </p:nvPicPr>
        <p:blipFill>
          <a:blip r:embed="rId6">
            <a:lum bright="6000"/>
          </a:blip>
          <a:stretch/>
        </p:blipFill>
        <p:spPr>
          <a:xfrm>
            <a:off x="5943600" y="3505320"/>
            <a:ext cx="1981080" cy="1342800"/>
          </a:xfrm>
          <a:prstGeom prst="rect">
            <a:avLst/>
          </a:prstGeom>
          <a:ln w="0">
            <a:noFill/>
          </a:ln>
        </p:spPr>
      </p:pic>
    </p:spTree>
  </p:cSld>
  <p:transition spd="med" advTm="14000">
    <p:random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8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ransparent:  materials that allow all light to pass through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ranslucent:  letting light through but scattering i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Opaque:  materials that do not let light through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ransmit:  to send (as in sound or light).  It also means light passing through an object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 advTm="11000">
    <p:random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8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Essential Knowledge, Skills, and Proces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nalyze the effects of a prism on white light and describe why this occurs.  Explain why a rainbow occurs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257" name="Picture 6" descr=""/>
          <p:cNvPicPr/>
          <p:nvPr/>
        </p:nvPicPr>
        <p:blipFill>
          <a:blip r:embed="rId1"/>
          <a:stretch/>
        </p:blipFill>
        <p:spPr>
          <a:xfrm>
            <a:off x="2362320" y="3657600"/>
            <a:ext cx="4527360" cy="28623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9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rand:  Force, Motion, and Energ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OL 5.3 The student will investigate and understand basic characteristics of white light.  Key concepts include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he visible spectrum, light waves, reflection, refraction, diffraction, opaque, transparent, translucent;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ptical tools (eyeglasses, lenses, flashlight, camera, kaleidoscope, binoculars, microscope light boxes, telescope, prism, spectroscope, mirrors); and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Historical contributions in ligh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 advTm="18000"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Essential Knowledge, Skills, and Proces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escribe the contributions of these scientists in creating and using optical tools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Galileo Galile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obert Hook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nton van Leeuwenhoek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Isaac Newto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 advTm="11000"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9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alileo Galile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Italia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Lived from 1564-164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eveloped the refracting telescop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eveloped the first known example of the microscop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262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86600" y="2057400"/>
            <a:ext cx="1114560" cy="144792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random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9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Robert Hook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English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Lived from 1635-170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evised the compound microscope and illumination system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iscovered plant cell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Examined fossils with a microscop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265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1828800"/>
            <a:ext cx="1201680" cy="137160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random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5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ton van Leeuwenhoek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utch; born in Holland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Lived 1632-172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Made over 500 simple microscope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iscovered bacteria, free-living and parasitic microscopic protist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268" name="Picture 5" descr="Go to fullsize image">
            <a:hlinkClick r:id="rId1"/>
          </p:cNvPr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7010280" y="2057400"/>
            <a:ext cx="1101960" cy="129528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8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8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Isaac Newt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English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Lived from 1643-1727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iscovered that white light was not a simple entity, but splits into a range of color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When he passed white light through a glass prism, he noted that a spectrum of light was formed; particle theory of ligh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eflecting telescop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271" name="Picture 5" descr="Go to fullsize image"/>
          <p:cNvPicPr/>
          <p:nvPr/>
        </p:nvPicPr>
        <p:blipFill>
          <a:blip r:embed="rId1"/>
          <a:stretch/>
        </p:blipFill>
        <p:spPr>
          <a:xfrm>
            <a:off x="6400800" y="1905120"/>
            <a:ext cx="985680" cy="1218960"/>
          </a:xfrm>
          <a:prstGeom prst="rect">
            <a:avLst/>
          </a:prstGeom>
          <a:ln w="0">
            <a:noFill/>
          </a:ln>
        </p:spPr>
      </p:pic>
    </p:spTree>
  </p:cSld>
  <p:transition spd="med" advTm="14000">
    <p:random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Essential Knowledge, Skills, and Proces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Explain the relationships between wavelength and the color of light.  Name the colors of the visible spectrum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OYGBIV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11" name="Picture 4" descr="Visible Spectrum"/>
          <p:cNvPicPr/>
          <p:nvPr/>
        </p:nvPicPr>
        <p:blipFill>
          <a:blip r:embed="rId1"/>
          <a:stretch/>
        </p:blipFill>
        <p:spPr>
          <a:xfrm>
            <a:off x="2362320" y="4062240"/>
            <a:ext cx="4419360" cy="261000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isible spectrum (visible light):  a combination of several different wavelengths of light traveling together.  It is part of the Electromagnetic Spectrum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rcRect l="26549" t="5612" r="14490" b="80971"/>
          <a:stretch/>
        </p:blipFill>
        <p:spPr>
          <a:xfrm>
            <a:off x="1143000" y="4419720"/>
            <a:ext cx="6705720" cy="19810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Essential Knowledge, Skills, and Proces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iagram and label a representation of a light wave (wavelength, peak, trough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1"/>
          <a:srcRect l="12480" t="15935" r="18511" b="63422"/>
          <a:stretch/>
        </p:blipFill>
        <p:spPr>
          <a:xfrm>
            <a:off x="762120" y="3200400"/>
            <a:ext cx="7848360" cy="304812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Waves:  a disturbance which carries energy and that travels away from the starting poin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Wavelength:  the distance between one crest of a wave and the next crest (distance between compressions); red is longest and violet is shortes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eak:  the highest point of a light wav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Trough:  the lowest point of a light wav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Frequency:  the number of waves (light or sound) produced in a given unit of time, such as a second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 advTm="20000"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4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Essential Knowledge, Skills, and Proces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ompare and contrast reflection and refractio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rcRect l="36601" t="4580" r="29230" b="67550"/>
          <a:stretch/>
        </p:blipFill>
        <p:spPr>
          <a:xfrm>
            <a:off x="947880" y="2971800"/>
            <a:ext cx="3095640" cy="32767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533520" y="62485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Reflectio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          Refractio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2"/>
          <a:srcRect l="48662" t="7680" r="19850" b="64970"/>
          <a:stretch/>
        </p:blipFill>
        <p:spPr>
          <a:xfrm>
            <a:off x="5199120" y="2971800"/>
            <a:ext cx="2905200" cy="327672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random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eflection:  the bouncing of light from a surfa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efraction:  the bending of light as it passes through one material to anothe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 advTm="6000">
    <p:random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Essential Knowledge, Skills, and Proces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esign an investigation to determine what happens to light as it passes through a convex lens.  Describe the results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533520" y="51055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A convex lens causes light to converge, or focus, producing an image that is smaller than the original object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30" name="Picture 8" descr="Convex Lens"/>
          <p:cNvPicPr/>
          <p:nvPr/>
        </p:nvPicPr>
        <p:blipFill>
          <a:blip r:embed="rId1"/>
          <a:stretch/>
        </p:blipFill>
        <p:spPr>
          <a:xfrm>
            <a:off x="3581280" y="3581280"/>
            <a:ext cx="1629000" cy="152424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random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07T20:51:36Z</dcterms:created>
  <dc:creator>Technology</dc:creator>
  <dc:description/>
  <dc:language>en-US</dc:language>
  <cp:lastModifiedBy>Rohith</cp:lastModifiedBy>
  <dcterms:modified xsi:type="dcterms:W3CDTF">2012-02-08T13:19:43Z</dcterms:modified>
  <cp:revision>46</cp:revision>
  <dc:subject/>
  <dc:title>Stop Faking It!  Light</dc:title>
</cp:coreProperties>
</file>