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1B32-EC16-4FE2-B21B-43EA349EA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431F-3EDE-4CF5-B06C-D191BB7D2E46}" type="slidenum">
              <a:rPr b="0" lang="en-US" sz="12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4D8-1BCF-458E-8C47-3ED51402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799-6F37-40E7-9019-970191C8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B00-5C4E-4017-9522-BE7EF901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1CB-617C-416B-835D-856005CB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DA85-C4E7-4883-8590-BD5F3586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0631-1F93-4F21-8782-B27AF2AC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D439-1AC1-4083-B1E2-850811D3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157A-1F15-4CBC-85B5-1DF7C625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12D4-F3F6-4826-8C0C-AAD947DA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2402-B369-4593-817B-FC060D9B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228E-5BBA-452C-BA31-1FC72401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75B-63AA-42E0-A849-4DFFBC6B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7C32-8AB4-4BF2-B4F5-BC57F829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500C-C42E-45B8-9B19-98908734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E396-5AE9-491C-B45B-A52E1728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97D6-6F9E-4E40-B6FC-61706FF9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109F-53F0-4DAB-83AD-443DB34E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A7C-1F97-4714-A5D0-1A9C9AD1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FAB-565A-4CC2-A870-2C0BEA77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3F4-4C52-479E-970F-D22962B6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5FD-D936-4240-9A35-C0EB2C1E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587-5FC0-4D39-99D7-3BCCF64E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529-BA2A-42ED-A312-42351B4D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EBC-C1FE-48F5-AB43-12A0D48F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1438-9562-4E21-9C12-715167AD6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449280" y="2328840"/>
                <a:ext cx="196920" cy="27468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EC4A-8FD2-4F9D-80B0-7B290511A5D6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wax+paper/v=2/SID=e/TID=I019_83/l=II/R=2/SS=i/OID=acc750ad0adf1b4e/SIG=1jtfa0q9v/EXP=1109541688/*-http%3A//images.search.yahoo.com/search/images/view?back=http%3A%2F%2Fimages.search.yahoo.com%2Fsearch%2Fimages%3Fp%3Dwax%2Bpaper%26ei%3DUTF-8%26fr%3DFP-tab-img-t%26fl%3D0%26x%3Dwrt&amp;h=425&amp;w=680&amp;imgcurl=www.seidata.com%2F%7Etraintown%2F02FlyinStuff%2Fplanebuildingsteps%2F03waxpaper.jpg&amp;imgurl=www.seidata.com%2F%7Etraintown%2F02FlyinStuff%2Fplanebuildingsteps%2F03waxpaper.jpg&amp;size=42.7kB&amp;name=03waxpaper.jpg&amp;rcurl=http%3A%2F%2Fwww.seidata.com%2F%7Etraintown%2Fhobbyhobnob%2F02buildingaplane.html&amp;rurl=http%3A%2F%2Fwww.seidata.com%2F%7Etraintown%2Fhobbyhobnob%2F02buildingaplane.html&amp;p=wax+paper&amp;type=jpeg&amp;no=2&amp;tt=8,038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rds.yahoo.com/S=96062857/K=plastic+wrap/v=2/SID=e/TID=I019_83/l=II/R=4/SS=i/OID=10eda1c6edd94670/SIG=1hg8spe7d/EXP=1109541781/*-http%3A//images.search.yahoo.com/search/images/view?back=http%3A%2F%2Fimages.search.yahoo.com%2Fsearch%2Fimages%3Fp%3Dplastic%2Bwrap%26ei%3DUTF-8%26fr%3DFP-tab-img-t%26fl%3D0%26x%3Dwrt&amp;h=160&amp;w=252&amp;imgcurl=www.hormel.com%2Fimages%2Fglossary%2Fp%2Fplastic_wrap.jpg&amp;imgurl=www.hormel.com%2Fimages%2Fglossary%2Fp%2Fplastic_wrap.jpg&amp;size=2.7kB&amp;name=plastic_wrap.jpg&amp;rcurl=http%3A%2F%2Fwww.hormel.com%2Fkitchen%2Fglossary.asp%3Fid%3D36505&amp;rurl=http%3A%2F%2Fwww.hormel.com%2Fkitchen%2Fglossary.asp%3Fid%3D36505&amp;p=plastic+wrap&amp;type=jpeg&amp;no=4&amp;tt=8,908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rds.yahoo.com/S=96062857/K=aluminum+foil/v=2/SID=e/TID=I019_83/l=II/R=3/SS=i/OID=7cb0f935f428db3a/SIG=1ghvv0959/EXP=1109541865/*-http%3A//images.search.yahoo.com/search/images/view?back=http%3A%2F%2Fimages.search.yahoo.com%2Fsearch%2Fimages%3Fp%3Daluminum%2Bfoil%26ei%3DUTF-8%26fr%3DFP-tab-img-t%26fl%3D0%26x%3Dwrt&amp;h=224&amp;w=328&amp;imgcurl=www.ceap.wcu.edu%2FHOUGHTON%2FECO%2Ffoil.jpg&amp;imgurl=www.ceap.wcu.edu%2FHOUGHTON%2FECO%2Ffoil.jpg&amp;size=17.9kB&amp;name=foil.jpg&amp;rcurl=http%3A%2F%2Fwww.ceap.wcu.edu%2FHOUGHTON%2FECO%2Fcircuitmake.html&amp;rurl=http%3A%2F%2Fwww.ceap.wcu.edu%2FHOUGHTON%2FECO%2Fcircuitmake.html&amp;p=aluminum+foil&amp;type=jpeg&amp;no=3&amp;tt=7,167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Galileo+Galilei/v=2/SID=e/TID=I019_83/l=II/R=3/SS=i/OID=0f7b7026f8987456/SIG=1ga240431/EXP=1109541287/*-http%3A//images.search.yahoo.com/search/images/view?back=http%3A%2F%2Fimages.search.yahoo.com%2Fsearch%2Fimages%3Fp%3DGalileo%2BGalilei%26ei%3DUTF-8%26fr%3DFP-tab-img-t%26fl%3D0%26x%3Dwrt&amp;h=100&amp;w=77&amp;imgcurl=www.quotedb.com%2Fimages%2Fauthors%2Fgalileo_galilei.jpg&amp;imgurl=www.quotedb.com%2Fimages%2Fauthors%2Fgalileo_galilei.jpg&amp;size=3.4kB&amp;name=galileo_galilei.jpg&amp;rcurl=http%3A%2F%2Fwww.quotedb.com%2Fauthors%2F18&amp;rurl=http%3A%2F%2Fwww.quotedb.com%2Fauthors%2F18&amp;p=Galileo+Galilei&amp;type=jpeg&amp;no=3&amp;tt=6,572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Robert+Hooke/v=2/SID=e/TID=I019_83/l=II/R=6/SS=i/OID=34aff190406f24d2/SIG=1js83v7dn/EXP=1109541342/*-http%3A//images.search.yahoo.com/search/images/view?back=http%3A%2F%2Fimages.search.yahoo.com%2Fsearch%2Fimages%3Fp%3DRobert%2BHooke%26ei%3DUTF-8%26fr%3DFP-tab-img-t%26fl%3D0%26x%3Dwrt&amp;h=191&amp;w=169&amp;imgcurl=www.mcrit.com%2FCOMSOC%2Fpersones_tecniques%2FRobert_Hooke_archivos%2FRobert_Hooke.jpg&amp;imgurl=www.mcrit.com%2FCOMSOC%2Fpersones_tecniques%2FRobert_Hooke_archivos%2FRobert_Hooke.jpg&amp;size=8.1kB&amp;name=Robert_Hooke.jpg&amp;rcurl=http%3A%2F%2Fwww.mcrit.com%2FCOMSOC%2Fpersones_tecniques%2FRobert_Hooke.htm&amp;rurl=http%3A%2F%2Fwww.mcrit.com%2FCOMSOC%2Fpersones_tecniques%2FRobert_Hooke.htm&amp;p=Robert+Hooke&amp;type=jpeg&amp;no=6&amp;tt=339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Anton+van+Leeuwenhoek/v=2/SID=e/TID=I019_83/l=II/R=7/SS=i/OID=b9bef60183305d9c/SIG=1nki7scti/EXP=1109541402/*-http%3A//images.search.yahoo.com/search/images/view?back=http%3A%2F%2Fimages.search.yahoo.com%2Fsearch%2Fimages%3Fp%3DAnton%2Bvan%2BLeeuwenhoek%26ei%3DUTF-8%26fr%3DFP-tab-img-t%26fl%3D0%26x%3Dwrt&amp;h=442&amp;w=377&amp;imgcurl=www.wappingersschools.org%2FRCK%2Fstaff%2Fteacherhp%2Fjohnson%2Fvisualvocab%2Fleeuwenhoek02%255b1%255d.jpg&amp;imgurl=www.wappingersschools.org%2FRCK%2Fstaff%2Fteacherhp%2Fjohnson%2Fvisualvocab%2Fleeuwenhoek02%255b1%255d.jpg&amp;size=44.4kB&amp;name=leeuwenhoek02%5B1%5D.jpg&amp;rcurl=http%3A%2F%2Fwww.wappingersschools.org%2FRCK%2Fstaff%2Fteacherhp%2Fjohnson%2Fvisualvocab%2Fpage9.html&amp;rurl=http%3A%2F%2Fwww.wappingersschools.org%2FRCK%2Fstaff%2Fteacherhp%2Fjohnson%2Fvisualvocab%2Fpage9.html&amp;p=Anton+van+Leeuwenhoek&amp;type=jpeg&amp;no=7&amp;tt=64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Ligh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3996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op Faking It!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6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sign an investigation to determine what happens to light as it passes through a concave lens.  Describe the results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33" name="Picture 5" descr="Concave Lens"/>
          <p:cNvPicPr/>
          <p:nvPr/>
        </p:nvPicPr>
        <p:blipFill>
          <a:blip r:embed="rId1"/>
          <a:stretch/>
        </p:blipFill>
        <p:spPr>
          <a:xfrm>
            <a:off x="3657600" y="3581280"/>
            <a:ext cx="1595520" cy="1704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838080" y="5334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A concave lens causes light to diverge, or spread out, producing a larger image than the original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2000"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dentify some common optical tools, and describe whether each has lenses, mirrors, and/or prisms in it.  These should includ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yeglass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lashlights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ameras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inocula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icroscop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2000">
    <p:random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yeglasses:  have lens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39" name="Group 8"/>
          <p:cNvGrpSpPr/>
          <p:nvPr/>
        </p:nvGrpSpPr>
        <p:grpSpPr>
          <a:xfrm>
            <a:off x="2133720" y="2590920"/>
            <a:ext cx="4647960" cy="3862440"/>
            <a:chOff x="2133720" y="2590920"/>
            <a:chExt cx="4647960" cy="3862440"/>
          </a:xfrm>
        </p:grpSpPr>
        <p:sp>
          <p:nvSpPr>
            <p:cNvPr id="140" name="AutoShape 7"/>
            <p:cNvSpPr/>
            <p:nvPr/>
          </p:nvSpPr>
          <p:spPr>
            <a:xfrm>
              <a:off x="2133720" y="2590920"/>
              <a:ext cx="4647960" cy="361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41" name="Group 101"/>
            <p:cNvGrpSpPr/>
            <p:nvPr/>
          </p:nvGrpSpPr>
          <p:grpSpPr>
            <a:xfrm>
              <a:off x="2550600" y="2874960"/>
              <a:ext cx="3939120" cy="3167280"/>
              <a:chOff x="2550600" y="2874960"/>
              <a:chExt cx="3939120" cy="3167280"/>
            </a:xfrm>
          </p:grpSpPr>
          <p:sp>
            <p:nvSpPr>
              <p:cNvPr id="142" name="Rectangle 9"/>
              <p:cNvSpPr/>
              <p:nvPr/>
            </p:nvSpPr>
            <p:spPr>
              <a:xfrm>
                <a:off x="2579760" y="5859360"/>
                <a:ext cx="199728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. Hyperopia (farsightedness)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3" name="Rectangle 10"/>
              <p:cNvSpPr/>
              <p:nvPr/>
            </p:nvSpPr>
            <p:spPr>
              <a:xfrm>
                <a:off x="2804040" y="3641760"/>
                <a:ext cx="9518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. Normal eye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2550600" y="4735440"/>
                <a:ext cx="192996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. Myopia (nearsightedness)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grpSp>
            <p:nvGrpSpPr>
              <p:cNvPr id="145" name="Group 25"/>
              <p:cNvGrpSpPr/>
              <p:nvPr/>
            </p:nvGrpSpPr>
            <p:grpSpPr>
              <a:xfrm>
                <a:off x="2813040" y="2874960"/>
                <a:ext cx="1235160" cy="789120"/>
                <a:chOff x="2813040" y="2874960"/>
                <a:chExt cx="1235160" cy="789120"/>
              </a:xfrm>
            </p:grpSpPr>
            <p:sp>
              <p:nvSpPr>
                <p:cNvPr id="146" name="Oval 12"/>
                <p:cNvSpPr/>
                <p:nvPr/>
              </p:nvSpPr>
              <p:spPr>
                <a:xfrm>
                  <a:off x="2813040" y="2874960"/>
                  <a:ext cx="790560" cy="7891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13"/>
                <p:cNvSpPr/>
                <p:nvPr/>
              </p:nvSpPr>
              <p:spPr>
                <a:xfrm>
                  <a:off x="2813040" y="2874960"/>
                  <a:ext cx="790560" cy="7891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14"/>
                <p:cNvSpPr/>
                <p:nvPr/>
              </p:nvSpPr>
              <p:spPr>
                <a:xfrm>
                  <a:off x="2841480" y="2932200"/>
                  <a:ext cx="660600" cy="6588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"/>
                <p:cNvSpPr/>
                <p:nvPr/>
              </p:nvSpPr>
              <p:spPr>
                <a:xfrm>
                  <a:off x="3449520" y="2955960"/>
                  <a:ext cx="160560" cy="1159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6"/>
                <p:cNvSpPr/>
                <p:nvPr/>
              </p:nvSpPr>
              <p:spPr>
                <a:xfrm flipV="1">
                  <a:off x="3492360" y="3422160"/>
                  <a:ext cx="103320" cy="101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17"/>
                <p:cNvSpPr/>
                <p:nvPr/>
              </p:nvSpPr>
              <p:spPr>
                <a:xfrm>
                  <a:off x="3456000" y="3151080"/>
                  <a:ext cx="88920" cy="2365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8"/>
                <p:cNvSpPr/>
                <p:nvPr/>
              </p:nvSpPr>
              <p:spPr>
                <a:xfrm>
                  <a:off x="2849400" y="3262320"/>
                  <a:ext cx="804960" cy="874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9"/>
                <p:cNvSpPr/>
                <p:nvPr/>
              </p:nvSpPr>
              <p:spPr>
                <a:xfrm>
                  <a:off x="3668760" y="3349800"/>
                  <a:ext cx="35064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20"/>
                <p:cNvSpPr/>
                <p:nvPr/>
              </p:nvSpPr>
              <p:spPr>
                <a:xfrm flipV="1">
                  <a:off x="2835360" y="3144960"/>
                  <a:ext cx="847800" cy="117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21"/>
                <p:cNvSpPr/>
                <p:nvPr/>
              </p:nvSpPr>
              <p:spPr>
                <a:xfrm>
                  <a:off x="3668760" y="3144960"/>
                  <a:ext cx="37944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" name="Group 24"/>
                <p:cNvGrpSpPr/>
                <p:nvPr/>
              </p:nvGrpSpPr>
              <p:grpSpPr>
                <a:xfrm>
                  <a:off x="3602160" y="3078000"/>
                  <a:ext cx="60120" cy="339840"/>
                  <a:chOff x="3602160" y="3078000"/>
                  <a:chExt cx="60120" cy="339840"/>
                </a:xfrm>
              </p:grpSpPr>
              <p:sp>
                <p:nvSpPr>
                  <p:cNvPr id="157" name="Arc 22"/>
                  <p:cNvSpPr/>
                  <p:nvPr/>
                </p:nvSpPr>
                <p:spPr>
                  <a:xfrm>
                    <a:off x="3602160" y="3078000"/>
                    <a:ext cx="6012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Arc 23"/>
                  <p:cNvSpPr/>
                  <p:nvPr/>
                </p:nvSpPr>
                <p:spPr>
                  <a:xfrm>
                    <a:off x="3602160" y="3247920"/>
                    <a:ext cx="6012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9" name="Group 39"/>
              <p:cNvGrpSpPr/>
              <p:nvPr/>
            </p:nvGrpSpPr>
            <p:grpSpPr>
              <a:xfrm>
                <a:off x="2782800" y="3954600"/>
                <a:ext cx="1309680" cy="790560"/>
                <a:chOff x="2782800" y="3954600"/>
                <a:chExt cx="1309680" cy="790560"/>
              </a:xfrm>
            </p:grpSpPr>
            <p:sp>
              <p:nvSpPr>
                <p:cNvPr id="160" name="Oval 26"/>
                <p:cNvSpPr/>
                <p:nvPr/>
              </p:nvSpPr>
              <p:spPr>
                <a:xfrm>
                  <a:off x="2782800" y="3954600"/>
                  <a:ext cx="792360" cy="7905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Oval 27"/>
                <p:cNvSpPr/>
                <p:nvPr/>
              </p:nvSpPr>
              <p:spPr>
                <a:xfrm>
                  <a:off x="2782800" y="3954600"/>
                  <a:ext cx="879480" cy="7905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Oval 28"/>
                <p:cNvSpPr/>
                <p:nvPr/>
              </p:nvSpPr>
              <p:spPr>
                <a:xfrm>
                  <a:off x="2797200" y="4027320"/>
                  <a:ext cx="806400" cy="6591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Oval 29"/>
                <p:cNvSpPr/>
                <p:nvPr/>
              </p:nvSpPr>
              <p:spPr>
                <a:xfrm>
                  <a:off x="3543480" y="4232160"/>
                  <a:ext cx="118800" cy="2350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30"/>
                <p:cNvSpPr/>
                <p:nvPr/>
              </p:nvSpPr>
              <p:spPr>
                <a:xfrm>
                  <a:off x="2790720" y="4327560"/>
                  <a:ext cx="920880" cy="117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31"/>
                <p:cNvSpPr/>
                <p:nvPr/>
              </p:nvSpPr>
              <p:spPr>
                <a:xfrm>
                  <a:off x="3727440" y="4444920"/>
                  <a:ext cx="3510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32"/>
                <p:cNvSpPr/>
                <p:nvPr/>
              </p:nvSpPr>
              <p:spPr>
                <a:xfrm flipV="1">
                  <a:off x="2790720" y="4240080"/>
                  <a:ext cx="936720" cy="1317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33"/>
                <p:cNvSpPr/>
                <p:nvPr/>
              </p:nvSpPr>
              <p:spPr>
                <a:xfrm>
                  <a:off x="3727440" y="4240080"/>
                  <a:ext cx="36504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" name="Group 36"/>
                <p:cNvGrpSpPr/>
                <p:nvPr/>
              </p:nvGrpSpPr>
              <p:grpSpPr>
                <a:xfrm>
                  <a:off x="3660840" y="4187880"/>
                  <a:ext cx="60120" cy="339840"/>
                  <a:chOff x="3660840" y="4187880"/>
                  <a:chExt cx="60120" cy="339840"/>
                </a:xfrm>
              </p:grpSpPr>
              <p:sp>
                <p:nvSpPr>
                  <p:cNvPr id="169" name="Arc 34"/>
                  <p:cNvSpPr/>
                  <p:nvPr/>
                </p:nvSpPr>
                <p:spPr>
                  <a:xfrm>
                    <a:off x="3660840" y="4187880"/>
                    <a:ext cx="6012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Arc 35"/>
                  <p:cNvSpPr/>
                  <p:nvPr/>
                </p:nvSpPr>
                <p:spPr>
                  <a:xfrm>
                    <a:off x="3660840" y="4357800"/>
                    <a:ext cx="6012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" name="Line 37"/>
                <p:cNvSpPr/>
                <p:nvPr/>
              </p:nvSpPr>
              <p:spPr>
                <a:xfrm flipH="1" flipV="1">
                  <a:off x="3565080" y="4094280"/>
                  <a:ext cx="103320" cy="871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38"/>
                <p:cNvSpPr/>
                <p:nvPr/>
              </p:nvSpPr>
              <p:spPr>
                <a:xfrm flipH="1">
                  <a:off x="3537000" y="4502160"/>
                  <a:ext cx="131760" cy="889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3"/>
              <p:cNvGrpSpPr/>
              <p:nvPr/>
            </p:nvGrpSpPr>
            <p:grpSpPr>
              <a:xfrm>
                <a:off x="2776680" y="5033880"/>
                <a:ext cx="1212840" cy="804960"/>
                <a:chOff x="2776680" y="5033880"/>
                <a:chExt cx="1212840" cy="804960"/>
              </a:xfrm>
            </p:grpSpPr>
            <p:sp>
              <p:nvSpPr>
                <p:cNvPr id="174" name="Oval 40"/>
                <p:cNvSpPr/>
                <p:nvPr/>
              </p:nvSpPr>
              <p:spPr>
                <a:xfrm>
                  <a:off x="2900520" y="5033880"/>
                  <a:ext cx="658800" cy="8049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Oval 41"/>
                <p:cNvSpPr/>
                <p:nvPr/>
              </p:nvSpPr>
              <p:spPr>
                <a:xfrm>
                  <a:off x="2900520" y="5033880"/>
                  <a:ext cx="658800" cy="8049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Oval 42"/>
                <p:cNvSpPr/>
                <p:nvPr/>
              </p:nvSpPr>
              <p:spPr>
                <a:xfrm>
                  <a:off x="2914560" y="5106960"/>
                  <a:ext cx="615960" cy="6444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Oval 43"/>
                <p:cNvSpPr/>
                <p:nvPr/>
              </p:nvSpPr>
              <p:spPr>
                <a:xfrm>
                  <a:off x="3456000" y="5311800"/>
                  <a:ext cx="74520" cy="2350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44"/>
                <p:cNvSpPr/>
                <p:nvPr/>
              </p:nvSpPr>
              <p:spPr>
                <a:xfrm>
                  <a:off x="2790720" y="5437080"/>
                  <a:ext cx="804960" cy="101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5"/>
                <p:cNvSpPr/>
                <p:nvPr/>
              </p:nvSpPr>
              <p:spPr>
                <a:xfrm>
                  <a:off x="3610080" y="5538960"/>
                  <a:ext cx="35064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6"/>
                <p:cNvSpPr/>
                <p:nvPr/>
              </p:nvSpPr>
              <p:spPr>
                <a:xfrm flipV="1">
                  <a:off x="2776680" y="5319720"/>
                  <a:ext cx="847440" cy="11736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7"/>
                <p:cNvSpPr/>
                <p:nvPr/>
              </p:nvSpPr>
              <p:spPr>
                <a:xfrm>
                  <a:off x="3610080" y="5319720"/>
                  <a:ext cx="37944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" name="Group 50"/>
                <p:cNvGrpSpPr/>
                <p:nvPr/>
              </p:nvGrpSpPr>
              <p:grpSpPr>
                <a:xfrm>
                  <a:off x="3557520" y="5267160"/>
                  <a:ext cx="60480" cy="339840"/>
                  <a:chOff x="3557520" y="5267160"/>
                  <a:chExt cx="60480" cy="339840"/>
                </a:xfrm>
              </p:grpSpPr>
              <p:sp>
                <p:nvSpPr>
                  <p:cNvPr id="183" name="Arc 48"/>
                  <p:cNvSpPr/>
                  <p:nvPr/>
                </p:nvSpPr>
                <p:spPr>
                  <a:xfrm>
                    <a:off x="3557520" y="5267160"/>
                    <a:ext cx="6048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Arc 49"/>
                  <p:cNvSpPr/>
                  <p:nvPr/>
                </p:nvSpPr>
                <p:spPr>
                  <a:xfrm>
                    <a:off x="3557520" y="5437080"/>
                    <a:ext cx="6048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" name="Line 51"/>
                <p:cNvSpPr/>
                <p:nvPr/>
              </p:nvSpPr>
              <p:spPr>
                <a:xfrm flipH="1">
                  <a:off x="3478320" y="5583240"/>
                  <a:ext cx="87120" cy="73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2"/>
                <p:cNvSpPr/>
                <p:nvPr/>
              </p:nvSpPr>
              <p:spPr>
                <a:xfrm flipH="1" flipV="1">
                  <a:off x="3492000" y="5187600"/>
                  <a:ext cx="73080" cy="73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Group 76"/>
              <p:cNvGrpSpPr/>
              <p:nvPr/>
            </p:nvGrpSpPr>
            <p:grpSpPr>
              <a:xfrm>
                <a:off x="4829040" y="3940200"/>
                <a:ext cx="1309680" cy="789120"/>
                <a:chOff x="4829040" y="3940200"/>
                <a:chExt cx="1309680" cy="789120"/>
              </a:xfrm>
            </p:grpSpPr>
            <p:sp>
              <p:nvSpPr>
                <p:cNvPr id="188" name="Oval 54"/>
                <p:cNvSpPr/>
                <p:nvPr/>
              </p:nvSpPr>
              <p:spPr>
                <a:xfrm>
                  <a:off x="4829040" y="3940200"/>
                  <a:ext cx="792360" cy="7891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Oval 55"/>
                <p:cNvSpPr/>
                <p:nvPr/>
              </p:nvSpPr>
              <p:spPr>
                <a:xfrm>
                  <a:off x="4829040" y="3940200"/>
                  <a:ext cx="879480" cy="7891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Oval 56"/>
                <p:cNvSpPr/>
                <p:nvPr/>
              </p:nvSpPr>
              <p:spPr>
                <a:xfrm>
                  <a:off x="4843440" y="4013280"/>
                  <a:ext cx="806400" cy="6588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Oval 57"/>
                <p:cNvSpPr/>
                <p:nvPr/>
              </p:nvSpPr>
              <p:spPr>
                <a:xfrm>
                  <a:off x="5589720" y="4216320"/>
                  <a:ext cx="118800" cy="23652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58"/>
                <p:cNvSpPr/>
                <p:nvPr/>
              </p:nvSpPr>
              <p:spPr>
                <a:xfrm>
                  <a:off x="4836960" y="4327560"/>
                  <a:ext cx="920880" cy="1015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59"/>
                <p:cNvSpPr/>
                <p:nvPr/>
              </p:nvSpPr>
              <p:spPr>
                <a:xfrm>
                  <a:off x="5773680" y="4429080"/>
                  <a:ext cx="3510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Line 60"/>
                <p:cNvSpPr/>
                <p:nvPr/>
              </p:nvSpPr>
              <p:spPr>
                <a:xfrm flipV="1">
                  <a:off x="4853160" y="4226040"/>
                  <a:ext cx="920520" cy="1015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61"/>
                <p:cNvSpPr/>
                <p:nvPr/>
              </p:nvSpPr>
              <p:spPr>
                <a:xfrm>
                  <a:off x="5773680" y="4226040"/>
                  <a:ext cx="36504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Group 64"/>
                <p:cNvGrpSpPr/>
                <p:nvPr/>
              </p:nvGrpSpPr>
              <p:grpSpPr>
                <a:xfrm>
                  <a:off x="5707080" y="4173480"/>
                  <a:ext cx="60480" cy="339840"/>
                  <a:chOff x="5707080" y="4173480"/>
                  <a:chExt cx="60480" cy="339840"/>
                </a:xfrm>
              </p:grpSpPr>
              <p:sp>
                <p:nvSpPr>
                  <p:cNvPr id="197" name="Arc 62"/>
                  <p:cNvSpPr/>
                  <p:nvPr/>
                </p:nvSpPr>
                <p:spPr>
                  <a:xfrm>
                    <a:off x="5707080" y="4173480"/>
                    <a:ext cx="6048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Arc 63"/>
                  <p:cNvSpPr/>
                  <p:nvPr/>
                </p:nvSpPr>
                <p:spPr>
                  <a:xfrm>
                    <a:off x="5707080" y="4343400"/>
                    <a:ext cx="6048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" name="Line 65"/>
                <p:cNvSpPr/>
                <p:nvPr/>
              </p:nvSpPr>
              <p:spPr>
                <a:xfrm flipH="1" flipV="1">
                  <a:off x="5611320" y="4079520"/>
                  <a:ext cx="103320" cy="874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Line 66"/>
                <p:cNvSpPr/>
                <p:nvPr/>
              </p:nvSpPr>
              <p:spPr>
                <a:xfrm flipH="1">
                  <a:off x="5583240" y="4487760"/>
                  <a:ext cx="131760" cy="874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1" name="Group 75"/>
                <p:cNvGrpSpPr/>
                <p:nvPr/>
              </p:nvGrpSpPr>
              <p:grpSpPr>
                <a:xfrm>
                  <a:off x="5802480" y="4035600"/>
                  <a:ext cx="241200" cy="556920"/>
                  <a:chOff x="5802480" y="4035600"/>
                  <a:chExt cx="241200" cy="556920"/>
                </a:xfrm>
              </p:grpSpPr>
              <p:grpSp>
                <p:nvGrpSpPr>
                  <p:cNvPr id="202" name="Group 69"/>
                  <p:cNvGrpSpPr/>
                  <p:nvPr/>
                </p:nvGrpSpPr>
                <p:grpSpPr>
                  <a:xfrm>
                    <a:off x="5954760" y="4043520"/>
                    <a:ext cx="88920" cy="541080"/>
                    <a:chOff x="5954760" y="4043520"/>
                    <a:chExt cx="88920" cy="541080"/>
                  </a:xfrm>
                </p:grpSpPr>
                <p:sp>
                  <p:nvSpPr>
                    <p:cNvPr id="203" name="Arc 67"/>
                    <p:cNvSpPr/>
                    <p:nvPr/>
                  </p:nvSpPr>
                  <p:spPr>
                    <a:xfrm>
                      <a:off x="5954760" y="4043520"/>
                      <a:ext cx="88920" cy="2775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Arc 68"/>
                    <p:cNvSpPr/>
                    <p:nvPr/>
                  </p:nvSpPr>
                  <p:spPr>
                    <a:xfrm>
                      <a:off x="5954760" y="4305240"/>
                      <a:ext cx="88920" cy="2793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5" name="Group 72"/>
                  <p:cNvGrpSpPr/>
                  <p:nvPr/>
                </p:nvGrpSpPr>
                <p:grpSpPr>
                  <a:xfrm>
                    <a:off x="5808600" y="4041720"/>
                    <a:ext cx="90720" cy="542880"/>
                    <a:chOff x="5808600" y="4041720"/>
                    <a:chExt cx="90720" cy="542880"/>
                  </a:xfrm>
                </p:grpSpPr>
                <p:sp>
                  <p:nvSpPr>
                    <p:cNvPr id="206" name="Arc 70"/>
                    <p:cNvSpPr/>
                    <p:nvPr/>
                  </p:nvSpPr>
                  <p:spPr>
                    <a:xfrm>
                      <a:off x="5808600" y="4041720"/>
                      <a:ext cx="90720" cy="2793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Arc 71"/>
                    <p:cNvSpPr/>
                    <p:nvPr/>
                  </p:nvSpPr>
                  <p:spPr>
                    <a:xfrm>
                      <a:off x="5808600" y="4305240"/>
                      <a:ext cx="90720" cy="2793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8" name="Line 73"/>
                  <p:cNvSpPr/>
                  <p:nvPr/>
                </p:nvSpPr>
                <p:spPr>
                  <a:xfrm>
                    <a:off x="5802480" y="4035600"/>
                    <a:ext cx="21888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Line 74"/>
                  <p:cNvSpPr/>
                  <p:nvPr/>
                </p:nvSpPr>
                <p:spPr>
                  <a:xfrm>
                    <a:off x="5802480" y="4591080"/>
                    <a:ext cx="21888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" name="Group 97"/>
              <p:cNvGrpSpPr/>
              <p:nvPr/>
            </p:nvGrpSpPr>
            <p:grpSpPr>
              <a:xfrm>
                <a:off x="4932360" y="5019840"/>
                <a:ext cx="1089000" cy="804600"/>
                <a:chOff x="4932360" y="5019840"/>
                <a:chExt cx="1089000" cy="804600"/>
              </a:xfrm>
            </p:grpSpPr>
            <p:sp>
              <p:nvSpPr>
                <p:cNvPr id="211" name="Oval 77"/>
                <p:cNvSpPr/>
                <p:nvPr/>
              </p:nvSpPr>
              <p:spPr>
                <a:xfrm>
                  <a:off x="4932360" y="5019840"/>
                  <a:ext cx="658800" cy="8046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78"/>
                <p:cNvSpPr/>
                <p:nvPr/>
              </p:nvSpPr>
              <p:spPr>
                <a:xfrm>
                  <a:off x="4932360" y="5019840"/>
                  <a:ext cx="658800" cy="80460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79"/>
                <p:cNvSpPr/>
                <p:nvPr/>
              </p:nvSpPr>
              <p:spPr>
                <a:xfrm>
                  <a:off x="4946760" y="5092560"/>
                  <a:ext cx="615960" cy="6447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80"/>
                <p:cNvSpPr/>
                <p:nvPr/>
              </p:nvSpPr>
              <p:spPr>
                <a:xfrm>
                  <a:off x="5487840" y="5297400"/>
                  <a:ext cx="74880" cy="23508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Line 81"/>
                <p:cNvSpPr/>
                <p:nvPr/>
              </p:nvSpPr>
              <p:spPr>
                <a:xfrm>
                  <a:off x="4940280" y="5423040"/>
                  <a:ext cx="687240" cy="1015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Line 82"/>
                <p:cNvSpPr/>
                <p:nvPr/>
              </p:nvSpPr>
              <p:spPr>
                <a:xfrm>
                  <a:off x="5641920" y="5524560"/>
                  <a:ext cx="35100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83"/>
                <p:cNvSpPr/>
                <p:nvPr/>
              </p:nvSpPr>
              <p:spPr>
                <a:xfrm flipV="1">
                  <a:off x="4954680" y="5304960"/>
                  <a:ext cx="701640" cy="1177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Line 84"/>
                <p:cNvSpPr/>
                <p:nvPr/>
              </p:nvSpPr>
              <p:spPr>
                <a:xfrm>
                  <a:off x="5641920" y="5305320"/>
                  <a:ext cx="37944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" name="Group 87"/>
                <p:cNvGrpSpPr/>
                <p:nvPr/>
              </p:nvGrpSpPr>
              <p:grpSpPr>
                <a:xfrm>
                  <a:off x="5589720" y="5253120"/>
                  <a:ext cx="60120" cy="339480"/>
                  <a:chOff x="5589720" y="5253120"/>
                  <a:chExt cx="60120" cy="339480"/>
                </a:xfrm>
              </p:grpSpPr>
              <p:sp>
                <p:nvSpPr>
                  <p:cNvPr id="220" name="Arc 85"/>
                  <p:cNvSpPr/>
                  <p:nvPr/>
                </p:nvSpPr>
                <p:spPr>
                  <a:xfrm>
                    <a:off x="5589720" y="5253120"/>
                    <a:ext cx="60120" cy="16992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Arc 86"/>
                  <p:cNvSpPr/>
                  <p:nvPr/>
                </p:nvSpPr>
                <p:spPr>
                  <a:xfrm>
                    <a:off x="5589720" y="5423040"/>
                    <a:ext cx="60120" cy="169560"/>
                  </a:xfrm>
                  <a:prstGeom prst="pie">
                    <a:avLst/>
                  </a:prstGeom>
                  <a:solidFill>
                    <a:srgbClr val="ffffff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ddddd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Line 88"/>
                <p:cNvSpPr/>
                <p:nvPr/>
              </p:nvSpPr>
              <p:spPr>
                <a:xfrm flipH="1">
                  <a:off x="5509800" y="5567400"/>
                  <a:ext cx="87480" cy="73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Line 89"/>
                <p:cNvSpPr/>
                <p:nvPr/>
              </p:nvSpPr>
              <p:spPr>
                <a:xfrm flipH="1" flipV="1">
                  <a:off x="5524200" y="5173200"/>
                  <a:ext cx="73080" cy="730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Group 96"/>
                <p:cNvGrpSpPr/>
                <p:nvPr/>
              </p:nvGrpSpPr>
              <p:grpSpPr>
                <a:xfrm>
                  <a:off x="5735520" y="5137200"/>
                  <a:ext cx="163800" cy="541440"/>
                  <a:chOff x="5735520" y="5137200"/>
                  <a:chExt cx="163800" cy="541440"/>
                </a:xfrm>
              </p:grpSpPr>
              <p:grpSp>
                <p:nvGrpSpPr>
                  <p:cNvPr id="225" name="Group 92"/>
                  <p:cNvGrpSpPr/>
                  <p:nvPr/>
                </p:nvGrpSpPr>
                <p:grpSpPr>
                  <a:xfrm>
                    <a:off x="5735520" y="5137200"/>
                    <a:ext cx="88920" cy="541440"/>
                    <a:chOff x="5735520" y="5137200"/>
                    <a:chExt cx="88920" cy="541440"/>
                  </a:xfrm>
                </p:grpSpPr>
                <p:sp>
                  <p:nvSpPr>
                    <p:cNvPr id="226" name="Arc 90"/>
                    <p:cNvSpPr/>
                    <p:nvPr/>
                  </p:nvSpPr>
                  <p:spPr>
                    <a:xfrm>
                      <a:off x="5735520" y="5137200"/>
                      <a:ext cx="88920" cy="2779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Arc 91"/>
                    <p:cNvSpPr/>
                    <p:nvPr/>
                  </p:nvSpPr>
                  <p:spPr>
                    <a:xfrm>
                      <a:off x="5735520" y="5398920"/>
                      <a:ext cx="88920" cy="2797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Group 95"/>
                  <p:cNvGrpSpPr/>
                  <p:nvPr/>
                </p:nvGrpSpPr>
                <p:grpSpPr>
                  <a:xfrm>
                    <a:off x="5808600" y="5137200"/>
                    <a:ext cx="90720" cy="541440"/>
                    <a:chOff x="5808600" y="5137200"/>
                    <a:chExt cx="90720" cy="541440"/>
                  </a:xfrm>
                </p:grpSpPr>
                <p:sp>
                  <p:nvSpPr>
                    <p:cNvPr id="229" name="Arc 93"/>
                    <p:cNvSpPr/>
                    <p:nvPr/>
                  </p:nvSpPr>
                  <p:spPr>
                    <a:xfrm>
                      <a:off x="5808600" y="5137200"/>
                      <a:ext cx="90720" cy="2779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Arc 94"/>
                    <p:cNvSpPr/>
                    <p:nvPr/>
                  </p:nvSpPr>
                  <p:spPr>
                    <a:xfrm>
                      <a:off x="5808600" y="5398920"/>
                      <a:ext cx="90720" cy="2797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1" name="Rectangle 98"/>
              <p:cNvSpPr/>
              <p:nvPr/>
            </p:nvSpPr>
            <p:spPr>
              <a:xfrm>
                <a:off x="4568760" y="4721400"/>
                <a:ext cx="192096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rrected with concave lens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2" name="Rectangle 99"/>
              <p:cNvSpPr/>
              <p:nvPr/>
            </p:nvSpPr>
            <p:spPr>
              <a:xfrm>
                <a:off x="4626720" y="5859360"/>
                <a:ext cx="183564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rrected with convex lens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3" name="Rectangle 100"/>
              <p:cNvSpPr/>
              <p:nvPr/>
            </p:nvSpPr>
            <p:spPr>
              <a:xfrm>
                <a:off x="4611600" y="3189240"/>
                <a:ext cx="1463760" cy="18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 correction needed</a:t>
                </a:r>
                <a:endParaRPr b="0" lang="en-US" sz="1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34" name="Rectangle 102"/>
            <p:cNvSpPr/>
            <p:nvPr/>
          </p:nvSpPr>
          <p:spPr>
            <a:xfrm>
              <a:off x="3960720" y="6240600"/>
              <a:ext cx="18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 spd="med" advTm="10000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lashlight:  has lenses and a mirro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37" name="Picture 8" descr="MagLiteRechargeableDiagram"/>
          <p:cNvPicPr/>
          <p:nvPr/>
        </p:nvPicPr>
        <p:blipFill>
          <a:blip r:embed="rId1"/>
          <a:stretch/>
        </p:blipFill>
        <p:spPr>
          <a:xfrm>
            <a:off x="1447920" y="2895480"/>
            <a:ext cx="6248160" cy="34340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ameras:  have lenses, mirrors, and a pris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40" name="Picture 5" descr="camera_slr"/>
          <p:cNvPicPr/>
          <p:nvPr/>
        </p:nvPicPr>
        <p:blipFill>
          <a:blip r:embed="rId1"/>
          <a:stretch/>
        </p:blipFill>
        <p:spPr>
          <a:xfrm>
            <a:off x="2057400" y="2514600"/>
            <a:ext cx="5143680" cy="4038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inoculars:  have lenses and prism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43" name="Picture 4" descr="Binoculars diagram"/>
          <p:cNvPicPr/>
          <p:nvPr/>
        </p:nvPicPr>
        <p:blipFill>
          <a:blip r:embed="rId1"/>
          <a:stretch/>
        </p:blipFill>
        <p:spPr>
          <a:xfrm>
            <a:off x="2666880" y="2666880"/>
            <a:ext cx="3551400" cy="3733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icroscope:  has lens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46" name="Picture 5" descr="LightDiagram"/>
          <p:cNvPicPr/>
          <p:nvPr/>
        </p:nvPicPr>
        <p:blipFill>
          <a:blip r:embed="rId1"/>
          <a:stretch/>
        </p:blipFill>
        <p:spPr>
          <a:xfrm>
            <a:off x="2971800" y="2590920"/>
            <a:ext cx="2776680" cy="3971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xplain the terms transparent, translucent, and opaque, and give an example of each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537000"/>
            <a:ext cx="2133360" cy="1328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609480" y="51055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Plastic wrap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Wax paper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       Aluminum Foi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Transparent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Translucent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Opaqu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51" name="Picture 8" descr="Go to fullsize image">
            <a:hlinkClick r:id="rId3"/>
          </p:cNvPr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609480" y="3586320"/>
            <a:ext cx="2057400" cy="12906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Go to fullsize image">
            <a:hlinkClick r:id="rId5"/>
          </p:cNvPr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5943600" y="3505320"/>
            <a:ext cx="1981080" cy="134280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ransparent:  materials that allow all light to pass throug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ranslucent:  letting light through but scattering 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paque:  materials that do not let light throug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ransmit:  to send (as in sound or light).  It also means light passing through an object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1000">
    <p:random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9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nalyze the effects of a prism on white light and describe why this occurs.  Explain why a rainbow occurs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527360" cy="2862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rand:  Force, Motion, and Energ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OL 5.3 The student will investigate and understand basic characteristics of white light.  Key concepts includ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 visible spectrum, light waves, reflection, refraction, diffraction, opaque, transparent, translucent;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ptical tools (eyeglasses, lenses, flashlight, camera, kaleidoscope, binoculars, microscope light boxes, telescope, prism, spectroscope, mirrors); an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istorical contributions in ligh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8000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scribe the contributions of these scientists in creating and using optical tools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Galileo Galile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bert Hook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nton van Leeuwenhoek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saac Newt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11000"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9" dur="2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alileo Galile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Italia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ived from 1564-164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veloped the refracting telescop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veloped the first known example of the microscop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62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2057400"/>
            <a:ext cx="1114560" cy="144792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random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9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Robert Hook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nglis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ived from 1635-170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vised the compound microscope and illumination syst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scovered plant cell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xamined fossils with a microscop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65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828800"/>
            <a:ext cx="120168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27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ton van Leeuwenhoek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utch; born in Hollan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ived 1632-172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Made over 500 simple microscop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scovered bacteria, free-living and parasitic microscopic protis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68" name="Picture 5" descr="Go to fullsize image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7010280" y="2057400"/>
            <a:ext cx="1101960" cy="129528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random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Isaac Newt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nglis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Lived from 1643-172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scovered that white light was not a simple entity, but splits into a range of colo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When he passed white light through a glass prism, he noted that a spectrum of light was formed; particle theory of ligh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flecting telescop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71" name="Picture 5" descr="Go to fullsize image"/>
          <p:cNvPicPr/>
          <p:nvPr/>
        </p:nvPicPr>
        <p:blipFill>
          <a:blip r:embed="rId1"/>
          <a:stretch/>
        </p:blipFill>
        <p:spPr>
          <a:xfrm>
            <a:off x="6400800" y="1905120"/>
            <a:ext cx="985680" cy="121896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random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9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Explain the relationships between wavelength and the color of light.  Name the colors of the visible spectrum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YGBIV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1" name="Picture 4" descr="Visible Spectrum"/>
          <p:cNvPicPr/>
          <p:nvPr/>
        </p:nvPicPr>
        <p:blipFill>
          <a:blip r:embed="rId1"/>
          <a:stretch/>
        </p:blipFill>
        <p:spPr>
          <a:xfrm>
            <a:off x="2362320" y="4062240"/>
            <a:ext cx="4419360" cy="26100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isible spectrum (visible light):  a combination of several different wavelengths of light traveling together.  It is part of the Electromagnetic Spectrum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rcRect l="26549" t="5612" r="14490" b="80971"/>
          <a:stretch/>
        </p:blipFill>
        <p:spPr>
          <a:xfrm>
            <a:off x="1143000" y="4419720"/>
            <a:ext cx="6705720" cy="1981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iagram and label a representation of a light wave (wavelength, peak, trough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rcRect l="12480" t="15935" r="18511" b="63422"/>
          <a:stretch/>
        </p:blipFill>
        <p:spPr>
          <a:xfrm>
            <a:off x="762120" y="3200400"/>
            <a:ext cx="7848360" cy="30481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Waves:  a disturbance which carries energy and that travels away from the starting poin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Wavelength:  the distance between one crest of a wave and the next crest (distance between compressions); red is longest and violet is shorte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eak:  the highest point of a light wav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rough:  the lowest point of a light wav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requency:  the number of waves (light or sound) produced in a given unit of time, such as a secon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20000"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ompare and contrast reflection and refrac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36601" t="4580" r="29230" b="67550"/>
          <a:stretch/>
        </p:blipFill>
        <p:spPr>
          <a:xfrm>
            <a:off x="947880" y="2971800"/>
            <a:ext cx="3095640" cy="3276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533520" y="62485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eflectio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    Refractio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rcRect l="48662" t="7680" r="19850" b="64970"/>
          <a:stretch/>
        </p:blipFill>
        <p:spPr>
          <a:xfrm>
            <a:off x="5199120" y="2971800"/>
            <a:ext cx="2905200" cy="327672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flection:  the bouncing of light from a surfa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efraction:  the bending of light as it passes through one material to anoth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 advTm="6000"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Essential Knowledge, Skills, and Proces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sign an investigation to determine what happens to light as it passes through a convex lens.  Describe the results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33520" y="5105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A convex lens causes light to converge, or focus, producing an image that is smaller than the original objec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30" name="Picture 8" descr="Convex Lens"/>
          <p:cNvPicPr/>
          <p:nvPr/>
        </p:nvPicPr>
        <p:blipFill>
          <a:blip r:embed="rId1"/>
          <a:stretch/>
        </p:blipFill>
        <p:spPr>
          <a:xfrm>
            <a:off x="3581280" y="3581280"/>
            <a:ext cx="1629000" cy="15242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7T20:51:36Z</dcterms:created>
  <dc:creator>Technology</dc:creator>
  <dc:description/>
  <dc:language>en-US</dc:language>
  <cp:lastModifiedBy>Rohith</cp:lastModifiedBy>
  <dcterms:modified xsi:type="dcterms:W3CDTF">2012-02-08T13:19:43Z</dcterms:modified>
  <cp:revision>46</cp:revision>
  <dc:subject/>
  <dc:title>Stop Faking It!  Light</dc:title>
</cp:coreProperties>
</file>